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426600"/>
            <a:ext cx="294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E33FDF-A9CB-4733-8DFC-0649425B94B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6867D5-F2CA-4850-A901-1EF7C23CF4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A0F624-0E27-430E-9D9E-A8BC25C097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27CC1-10F3-45FD-823A-8CC6342915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2C5D81-9B45-49A2-A13E-8DC725B278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AFAD28-60F5-4E41-AFA3-C9671B4AA9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C2F46F-5117-4649-9E32-3C866F8053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75835E-CB26-473E-A0F9-1FC2EDD0E3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1CF0C0-9DCC-41C4-ADBD-53DBFBF034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7CB1E5-2BDF-4C10-82AF-ED583B1F2B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D43905-FBA2-4083-BF55-F657A77EB0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5E9F63-09B4-449B-9643-AA6B61F372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90CD52-EC3A-4AD7-9D81-2DD100DB11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AF769D-F470-4C27-8E69-C699A707EA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E818A0-F0D8-46DD-88E5-E41FF26CBD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B96A06-5784-4E0A-97BE-0F70C1A50E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3867A1-3E19-4079-A84C-ACFD317F7E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A721FA-7137-4954-AD0F-DA5F6FC700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’ajouterais bien que l’exigence d’une réflexion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tructuré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existe toujours, bien que sous une autre forme (argumentation, qualification notam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0C84CF-F297-49D9-AF10-288B38F269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0B29F0-B7EE-4E23-8182-FC6233EFD3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e ne suis pas sûre que ce soit aussi simple ; la conceptualisation est une opération mentale complexe. Il me semble que dans ce que vous appelez l’analyse, il y a déjà une opération de conceptualisation : l’élève va vers l’abstraction (= conceptualisation) en qualifiant juridiqu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e nuancerais donc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s d’accord avec votre 4 :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pas de formatag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 exigeant un syllogisme. On peut avoir une excellente réponse d’un élève qui présente les éléments de l’argumentation dans le désord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s contre, indiquez aux collègues que le syllogisme est un outil méthodologiques qui va aider l’élève à structurer sa réflex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E24B20-E6BC-4741-9B44-7442CA5B76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09F15B-B90D-4EE6-A0A0-677EF49508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112621-0CA7-4C97-90A1-3058272E35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CCE06C-12BB-4C78-A650-47B2470E30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4C464F-20AB-4A9D-A853-C619C65B8E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EC3979-B7D3-4B69-8E8D-C16BEFEE93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54004E-F812-44DF-AF09-765325859D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7A35B0-A72B-4099-8A8F-7015BAF92C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« La préparation à l’évaluation fera l’objet d’une  FOAD formation en 2013.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Une journée de formation en présentiel sera organisée au cours de la prochaine année scolaire sur le programme de terminale et sur la cer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8D8600-1C2F-4239-8253-55B47900AE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3FA19D-7D1F-44EF-9C86-85B2B6BBED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e ne suis pas d’accord avec vous. Ici, vous êtes déjà dans l’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bservation consiste à repérer des éléments, des faits : « raconter l’histoire ». Cela permet de faire émerger les représentations des élèves pour s’assurer qu’ils ont compris la situation, le problè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intérêt de l’accord pour R, S et mme B relève déjà de l’analyse, de même que la qualification de l’accord (« nommez 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A009BC-2A10-4DD3-BA2B-02B60AA7DF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18B4DE-C632-4EEE-91EB-E4C91830AF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ous n’êtes pas obligés d’aller aussi loin dans l’illustration pédagog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essentiel est de montrer aux profs qu’à partir du cas de départ on peut progressivement traiter l’ensemble du chapitre à partir d’un questionnement pertinent et de l’analyse de supports documentai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est difficile, voire impossible, de reproduire précisément la séquence pédagogique. C’est pourquoi, il me semble qu’il suffit dans votre diaporama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’évoquer la situation (le cas prat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 lister les ressources qui lui seront progressivement associées (113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 donner les objectifs notionnels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 faisant comprendre aux profs que la stratégie pédagogique consiste à s’appuyer tout au long de la séquence sur la situation pour finir par formuler progressivement les notions du program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2F2CA6-BC1B-4D04-A22A-A4A2ACDDF5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A18773-7405-4308-AD6B-557664D51E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n collègue P. Villemain est allergique à l’expression « fiche de 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près discussion, nous avons opté pour « Cours de l’élève 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faut donc modifier votre titre. Je vous propose de mettre simplement « Cours de l’élève » et de préciser plus bas que l’élève doit avoir un cours à l’élaboration duquel il aura particip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4429C6-FADB-440D-BE29-CF7930889E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793418-59A4-40E2-AAD4-5B0339F560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première vue, je me dis que la présentation du programme est un peu loi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quoi ne pas la mettre en 2 ou en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ED2A58-0452-4604-8EDD-53E0532468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6D705A-0904-4F14-9D00-39C80E8A42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F52550-7D7A-4B48-8431-78AF326B26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31ED20-A2AD-47FE-AFD5-629F6306DA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cidément, je positionnerais la présentation du programme juste après « l’évolution du contenu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891050-4C4C-4660-B658-52FFB86A86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C54876-098E-4A14-89C1-D7EB22DB8B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« Fera l’objet d’une présentation plus détaillée au cours d’une formation organisée l’an prochain 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3BFF3E-512B-449F-AF10-D6E4603E94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DC07DC-98AC-454B-B3C0-92762FD80C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43D0DD-4CC5-436E-BC47-9E97F795C4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6E291E-9F9D-4954-9743-6111456780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 pas passer trop de temps à expliciter cette diapo : préciser aux profs que l’objectif est aussi de mettre à leur disposition une ressource pédagogique qui leur sera utile l’an pro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7ABDCB-D150-48C8-80FD-52E145F3A6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1AC2-5FCE-484D-BEB7-82FD21CB95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7121-EAEB-4B97-BE5E-FEA5047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836C-5FBE-4C30-A3E6-F18ABAB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036A-8C1C-497A-B63A-BCC6C02EFD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37B3-94BB-457C-88FF-949B33D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D2A1-D69D-461B-8B62-7CF54E49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AC0A-DEE9-4268-87A9-A8FD5DB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587A-59A3-4CC3-9365-67385D5E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E524-94D9-4053-BBCF-12A88D1A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62C2-0A2F-4C1F-81C3-AD952185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CFF0-EC8F-436C-BBC7-B09A068C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05D7-20AC-4868-9F35-E2F576A0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43414C-8F0E-48E5-B8E9-C2254F4C516C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/%255CDocuments%20and%20Settings%255Csmbadmin%255CBureau%255Csujet%200.docx" TargetMode="External"/><Relationship Id="rId2" Type="http://schemas.openxmlformats.org/officeDocument/2006/relationships/hyperlink" Target="file:///C/%255CDocuments%20and%20Settings%255Csmbadmin%255CBureau%255Csujet%200.docx" TargetMode="External"/><Relationship Id="rId3" Type="http://schemas.openxmlformats.org/officeDocument/2006/relationships/hyperlink" Target="file:///C/%255CDocuments%20and%20Settings%255Csmbadmin%255CBureau%255Csujet%200.docx" TargetMode="External"/><Relationship Id="rId4" Type="http://schemas.openxmlformats.org/officeDocument/2006/relationships/hyperlink" Target="file:///C/%255CDocuments%20and%20Settings%255Csmbadmin%255CBureau%255Csujet%200.docx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outeleurope.eu/fr/divers/plan-du-sit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2195640" y="900000"/>
            <a:ext cx="64450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nold Boecklin"/>
              </a:rPr>
              <a:t>REFORME</a:t>
            </a:r>
            <a:br>
              <a:rPr sz="7200"/>
            </a:br>
            <a:r>
              <a:rPr b="1" lang="fr-FR" sz="7200" spc="-1" strike="noStrike">
                <a:solidFill>
                  <a:srgbClr val="000000"/>
                </a:solidFill>
                <a:latin typeface="Arnold Boecklin"/>
              </a:rPr>
              <a:t>STMG</a:t>
            </a:r>
            <a:br>
              <a:rPr sz="7200"/>
            </a:br>
            <a:r>
              <a:rPr b="1" lang="fr-FR" sz="7200" spc="-1" strike="noStrike">
                <a:solidFill>
                  <a:srgbClr val="ff9933"/>
                </a:solidFill>
                <a:latin typeface="Arnold Boecklin"/>
              </a:rPr>
              <a:t>DROIT</a:t>
            </a:r>
            <a:br>
              <a:rPr sz="5400"/>
            </a:b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519200" y="41878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7f7f7f"/>
                </a:solidFill>
                <a:latin typeface="Calibri"/>
              </a:rPr>
              <a:t>FOAD du 27 Avril 201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Image 1"/>
          <p:cNvSpPr/>
          <p:nvPr/>
        </p:nvSpPr>
        <p:spPr>
          <a:xfrm>
            <a:off x="766800" y="2273400"/>
            <a:ext cx="285732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Image 1" descr=""/>
          <p:cNvPicPr/>
          <p:nvPr/>
        </p:nvPicPr>
        <p:blipFill>
          <a:blip r:embed="rId1"/>
          <a:stretch/>
        </p:blipFill>
        <p:spPr>
          <a:xfrm>
            <a:off x="468360" y="2185920"/>
            <a:ext cx="315576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HEME 2</a:t>
            </a:r>
            <a:br>
              <a:rPr sz="2800"/>
            </a:br>
            <a:r>
              <a:rPr b="1" i="1" lang="fr-FR" sz="2800" spc="-1" strike="noStrike">
                <a:solidFill>
                  <a:srgbClr val="00b050"/>
                </a:solidFill>
                <a:latin typeface="Calibri"/>
              </a:rPr>
              <a:t>Comment le droit permet-il de régler un litige ?</a:t>
            </a:r>
            <a:br>
              <a:rPr sz="2400"/>
            </a:b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(Durée : 15h du volume horaire avec cours et travaux de groupe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000" y="1413000"/>
            <a:ext cx="8227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 u="sng">
                <a:solidFill>
                  <a:srgbClr val="00b050"/>
                </a:solidFill>
                <a:uFillTx/>
                <a:latin typeface="Calibri"/>
              </a:rPr>
              <a:t>Sens général</a:t>
            </a: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roit organise et pacifie les relations sociales. Néanmoins, des conflits peuvent naître et le droit existe alors en tant qu’outil de résolution des litiges, guidé par certains principes de procéd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 u="sng">
                <a:solidFill>
                  <a:srgbClr val="00b050"/>
                </a:solidFill>
                <a:uFillTx/>
                <a:latin typeface="Calibri"/>
              </a:rPr>
              <a:t>Méthodologie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 La transformation d’un conflit en litige impose la formulation du problème en termes juridiques et à la recherche des moyens de droit à l’appui des prétentions des parties » : Etude de situations juridiq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 u="sng">
                <a:solidFill>
                  <a:srgbClr val="00b050"/>
                </a:solidFill>
                <a:uFillTx/>
                <a:latin typeface="Calibri"/>
              </a:rPr>
              <a:t>Notions et conten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itige et recours au juge : Eléments du litige (faits, parties, prétentions, problè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bjet de la preuve, charge de la preuve, modes de preuve et admissi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incipes de la procédure civile : droit au procès équitable et d’une durée raisonnable, droit au double degré de juridiction, compétence des juridictions, principes relatifs au déroulement du procès (contradiction, publicité, neutralité du jug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169920"/>
            <a:ext cx="3322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THEME 2 SCHEMA NOTIONNEL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3564000" y="431640"/>
            <a:ext cx="3960720" cy="39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ENT LE DROIT PERMET-IL DE REGLER UN LITIGE 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987640" y="1074600"/>
            <a:ext cx="4897440" cy="2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fication Juridique d’un litige (faits, parties, prétentions, problèm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250920" y="1479600"/>
            <a:ext cx="3384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orsqu’une personne invoque devant un juge l’existence d’un droit à son profit, elle doit en apporter la preuv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08000" y="2327400"/>
            <a:ext cx="3672000" cy="2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égime juridique de la PREUV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0" name="Connecteur droit avec flèche 6"/>
          <p:cNvCxnSpPr/>
          <p:nvPr/>
        </p:nvCxnSpPr>
        <p:spPr>
          <a:xfrm>
            <a:off x="4571640" y="82188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AutoShape 11"/>
          <p:cNvSpPr/>
          <p:nvPr/>
        </p:nvSpPr>
        <p:spPr>
          <a:xfrm>
            <a:off x="4643280" y="1482840"/>
            <a:ext cx="3384720" cy="65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e recours au juge obéit à des principes dans le contexte d’une procédure civi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2" name="Connecteur droit avec flèche 14"/>
          <p:cNvCxnSpPr/>
          <p:nvPr/>
        </p:nvCxnSpPr>
        <p:spPr>
          <a:xfrm flipH="1">
            <a:off x="1762920" y="1326960"/>
            <a:ext cx="15138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Connecteur droit avec flèche 16"/>
          <p:cNvCxnSpPr/>
          <p:nvPr/>
        </p:nvCxnSpPr>
        <p:spPr>
          <a:xfrm>
            <a:off x="5148360" y="1327320"/>
            <a:ext cx="100872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Connecteur droit avec flèche 18"/>
          <p:cNvCxnSpPr/>
          <p:nvPr/>
        </p:nvCxnSpPr>
        <p:spPr>
          <a:xfrm>
            <a:off x="1763280" y="21366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5" name="Tableau 20" descr=""/>
          <p:cNvPicPr/>
          <p:nvPr/>
        </p:nvPicPr>
        <p:blipFill>
          <a:blip r:embed="rId1"/>
          <a:stretch/>
        </p:blipFill>
        <p:spPr>
          <a:xfrm>
            <a:off x="55440" y="3786120"/>
            <a:ext cx="392616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1"/>
          <p:cNvSpPr/>
          <p:nvPr/>
        </p:nvSpPr>
        <p:spPr>
          <a:xfrm>
            <a:off x="1065240" y="2732040"/>
            <a:ext cx="787320" cy="841320"/>
          </a:xfrm>
          <a:custGeom>
            <a:avLst/>
            <a:gdLst>
              <a:gd name="textAreaLeft" fmla="*/ 38160 w 787320"/>
              <a:gd name="textAreaRight" fmla="*/ 749160 w 787320"/>
              <a:gd name="textAreaTop" fmla="*/ 38160 h 841320"/>
              <a:gd name="textAreaBottom" fmla="*/ 803160 h 841320"/>
            </a:gdLst>
            <a:ahLst/>
            <a:rect l="textAreaLeft" t="textAreaTop" r="textAreaRight" b="textAreaBottom"/>
            <a:pathLst>
              <a:path w="21600" h="23081">
                <a:moveTo>
                  <a:pt x="3600" y="0"/>
                </a:moveTo>
                <a:arcTo wR="3600" hR="3600" stAng="16200000" swAng="-5400000"/>
                <a:lnTo>
                  <a:pt x="0" y="19481"/>
                </a:lnTo>
                <a:arcTo wR="3600" hR="3600" stAng="10800000" swAng="-5400000"/>
                <a:lnTo>
                  <a:pt x="18000" y="230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OI ?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 de la preuv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1943280" y="2732040"/>
            <a:ext cx="787320" cy="841320"/>
          </a:xfrm>
          <a:custGeom>
            <a:avLst/>
            <a:gdLst>
              <a:gd name="textAreaLeft" fmla="*/ 38160 w 787320"/>
              <a:gd name="textAreaRight" fmla="*/ 749160 w 787320"/>
              <a:gd name="textAreaTop" fmla="*/ 38160 h 841320"/>
              <a:gd name="textAreaBottom" fmla="*/ 803160 h 841320"/>
            </a:gdLst>
            <a:ahLst/>
            <a:rect l="textAreaLeft" t="textAreaTop" r="textAreaRight" b="textAreaBottom"/>
            <a:pathLst>
              <a:path w="21600" h="23081">
                <a:moveTo>
                  <a:pt x="3600" y="0"/>
                </a:moveTo>
                <a:arcTo wR="3600" hR="3600" stAng="16200000" swAng="-5400000"/>
                <a:lnTo>
                  <a:pt x="0" y="19481"/>
                </a:lnTo>
                <a:arcTo wR="3600" hR="3600" stAng="10800000" swAng="-5400000"/>
                <a:lnTo>
                  <a:pt x="18000" y="230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I ?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harge de la preuv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843280" y="2720880"/>
            <a:ext cx="101448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ENT ?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s de preuv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9" name="Connecteur droit avec flèche 25"/>
          <p:cNvCxnSpPr/>
          <p:nvPr/>
        </p:nvCxnSpPr>
        <p:spPr>
          <a:xfrm flipH="1">
            <a:off x="1369440" y="2579760"/>
            <a:ext cx="17820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Connecteur droit avec flèche 27"/>
          <p:cNvCxnSpPr>
            <a:endCxn id="137" idx="0"/>
          </p:cNvCxnSpPr>
          <p:nvPr/>
        </p:nvCxnSpPr>
        <p:spPr>
          <a:xfrm>
            <a:off x="2227320" y="2579400"/>
            <a:ext cx="1101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Connecteur droit avec flèche 29"/>
          <p:cNvCxnSpPr>
            <a:endCxn id="138" idx="0"/>
          </p:cNvCxnSpPr>
          <p:nvPr/>
        </p:nvCxnSpPr>
        <p:spPr>
          <a:xfrm>
            <a:off x="2920680" y="2579760"/>
            <a:ext cx="4309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cteur droit avec flèche 19455"/>
          <p:cNvCxnSpPr>
            <a:stCxn id="136" idx="2"/>
          </p:cNvCxnSpPr>
          <p:nvPr/>
        </p:nvCxnSpPr>
        <p:spPr>
          <a:xfrm>
            <a:off x="1458720" y="3573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Connecteur droit avec flèche 19458"/>
          <p:cNvCxnSpPr>
            <a:stCxn id="137" idx="2"/>
          </p:cNvCxnSpPr>
          <p:nvPr/>
        </p:nvCxnSpPr>
        <p:spPr>
          <a:xfrm>
            <a:off x="2336400" y="3573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Connecteur droit avec flèche 19460"/>
          <p:cNvCxnSpPr>
            <a:stCxn id="138" idx="2"/>
          </p:cNvCxnSpPr>
          <p:nvPr/>
        </p:nvCxnSpPr>
        <p:spPr>
          <a:xfrm flipH="1">
            <a:off x="3350520" y="3561840"/>
            <a:ext cx="10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AutoShape 11"/>
          <p:cNvSpPr/>
          <p:nvPr/>
        </p:nvSpPr>
        <p:spPr>
          <a:xfrm>
            <a:off x="4500720" y="2327400"/>
            <a:ext cx="3671640" cy="2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CIPES communautaires et françai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6" name="Connecteur droit avec flèche 19463"/>
          <p:cNvCxnSpPr>
            <a:stCxn id="131" idx="2"/>
            <a:endCxn id="145" idx="0"/>
          </p:cNvCxnSpPr>
          <p:nvPr/>
        </p:nvCxnSpPr>
        <p:spPr>
          <a:xfrm>
            <a:off x="6335280" y="21366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AutoShape 11"/>
          <p:cNvSpPr/>
          <p:nvPr/>
        </p:nvSpPr>
        <p:spPr>
          <a:xfrm>
            <a:off x="4529160" y="2747880"/>
            <a:ext cx="1014480" cy="1035000"/>
          </a:xfrm>
          <a:custGeom>
            <a:avLst/>
            <a:gdLst>
              <a:gd name="textAreaLeft" fmla="*/ 49320 w 1014480"/>
              <a:gd name="textAreaRight" fmla="*/ 965160 w 1014480"/>
              <a:gd name="textAreaTop" fmla="*/ 49320 h 1035000"/>
              <a:gd name="textAreaBottom" fmla="*/ 985680 h 1035000"/>
            </a:gdLst>
            <a:ahLst/>
            <a:rect l="textAreaLeft" t="textAreaTop" r="textAreaRight" b="textAreaBottom"/>
            <a:pathLst>
              <a:path w="21600" h="22037">
                <a:moveTo>
                  <a:pt x="3600" y="0"/>
                </a:moveTo>
                <a:arcTo wR="3600" hR="3600" stAng="16200000" swAng="-5400000"/>
                <a:lnTo>
                  <a:pt x="0" y="18437"/>
                </a:lnTo>
                <a:arcTo wR="3600" hR="3600" stAng="10800000" swAng="-5400000"/>
                <a:lnTo>
                  <a:pt x="18000" y="22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roit au procès équitable et d’une durée raisonnable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5724360" y="2754360"/>
            <a:ext cx="107820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roit au double degré de juridiction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7020000" y="2754360"/>
            <a:ext cx="1081080" cy="10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étence des juridictions (Attribution / Territoriale)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0" name="Connecteur droit avec flèche 19465"/>
          <p:cNvCxnSpPr>
            <a:endCxn id="147" idx="0"/>
          </p:cNvCxnSpPr>
          <p:nvPr/>
        </p:nvCxnSpPr>
        <p:spPr>
          <a:xfrm flipH="1">
            <a:off x="5034960" y="2579400"/>
            <a:ext cx="61668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Connecteur droit avec flèche 19467"/>
          <p:cNvCxnSpPr>
            <a:endCxn id="148" idx="0"/>
          </p:cNvCxnSpPr>
          <p:nvPr/>
        </p:nvCxnSpPr>
        <p:spPr>
          <a:xfrm>
            <a:off x="6156000" y="2579400"/>
            <a:ext cx="10692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onnecteur droit avec flèche 19469"/>
          <p:cNvCxnSpPr>
            <a:endCxn id="149" idx="0"/>
          </p:cNvCxnSpPr>
          <p:nvPr/>
        </p:nvCxnSpPr>
        <p:spPr>
          <a:xfrm>
            <a:off x="7164360" y="2579400"/>
            <a:ext cx="39600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AutoShape 11"/>
          <p:cNvSpPr/>
          <p:nvPr/>
        </p:nvSpPr>
        <p:spPr>
          <a:xfrm>
            <a:off x="5756400" y="3562200"/>
            <a:ext cx="1077840" cy="101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istinction claire des rôles des CA et Cour Cassation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Connecteur droit 19476"/>
          <p:cNvSpPr/>
          <p:nvPr/>
        </p:nvSpPr>
        <p:spPr>
          <a:xfrm>
            <a:off x="6262560" y="3357720"/>
            <a:ext cx="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284720" y="4734000"/>
            <a:ext cx="1290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cipes de déroulement du procès :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Contradiction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Publicité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Neutralité juge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4284720" y="6021360"/>
            <a:ext cx="2549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 u="sng">
                <a:solidFill>
                  <a:srgbClr val="7030a0"/>
                </a:solidFill>
                <a:uFillTx/>
                <a:latin typeface="Calibri"/>
              </a:rPr>
              <a:t>Suppression</a:t>
            </a:r>
            <a:r>
              <a:rPr b="0" lang="fr-FR" sz="1100" spc="-1" strike="noStrike">
                <a:solidFill>
                  <a:srgbClr val="7030a0"/>
                </a:solidFill>
                <a:latin typeface="Calibri"/>
              </a:rPr>
              <a:t> : Séparation des pouvoirs, Collégialité, Egalité des citoyens, Gratuité, les MARC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7020000" y="4734000"/>
            <a:ext cx="1655640" cy="189684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1896840"/>
              <a:gd name="textAreaBottom" fmla="*/ 1816200 h 1896840"/>
            </a:gdLst>
            <a:ahLst/>
            <a:rect l="textAreaLeft" t="textAreaTop" r="textAreaRight" b="textAreaBottom"/>
            <a:pathLst>
              <a:path w="21600" h="24746">
                <a:moveTo>
                  <a:pt x="3600" y="0"/>
                </a:moveTo>
                <a:arcTo wR="3600" hR="3600" stAng="16200000" swAng="-5400000"/>
                <a:lnTo>
                  <a:pt x="0" y="21146"/>
                </a:lnTo>
                <a:arcTo wR="3600" hR="3600" stAng="10800000" swAng="-5400000"/>
                <a:lnTo>
                  <a:pt x="18000" y="24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cipales étapes du procès civil :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Introduction de l’instance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Saisine du tribunal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Instruction ou mise en l’état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Audience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Clôture des débats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Double flèche horizontale 19479"/>
          <p:cNvSpPr/>
          <p:nvPr/>
        </p:nvSpPr>
        <p:spPr>
          <a:xfrm>
            <a:off x="5651640" y="5084640"/>
            <a:ext cx="1296720" cy="4320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5878440" y="4886280"/>
            <a:ext cx="8431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A mettre en relation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108000" y="6126120"/>
            <a:ext cx="381636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b050"/>
                </a:solidFill>
                <a:latin typeface="Calibri"/>
                <a:ea typeface="Times New Roman"/>
              </a:rPr>
              <a:t>+ Distinction avec la procédure pénale : Liberté preuv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b050"/>
                </a:solidFill>
                <a:latin typeface="Calibri"/>
                <a:ea typeface="Times New Roman"/>
              </a:rPr>
              <a:t>Charge preuve </a:t>
            </a:r>
            <a:r>
              <a:rPr b="0" lang="fr-FR" sz="1000" spc="-1" strike="noStrike">
                <a:solidFill>
                  <a:srgbClr val="00b050"/>
                </a:solidFill>
                <a:latin typeface="Calibri"/>
                <a:ea typeface="Times New Roman"/>
              </a:rPr>
              <a:t>: les parties au civil, le Ministère public au pénal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b050"/>
                </a:solidFill>
                <a:latin typeface="Calibri"/>
                <a:ea typeface="Times New Roman"/>
              </a:rPr>
              <a:t>Finalité </a:t>
            </a:r>
            <a:r>
              <a:rPr b="0" lang="fr-FR" sz="1000" spc="-1" strike="noStrike">
                <a:solidFill>
                  <a:srgbClr val="00b050"/>
                </a:solidFill>
                <a:latin typeface="Calibri"/>
                <a:ea typeface="Times New Roman"/>
              </a:rPr>
              <a:t>: vérité relative au civil, vérité matérielle au pénal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1" name="Connecteur droit avec flèche 19486"/>
          <p:cNvCxnSpPr>
            <a:stCxn id="147" idx="2"/>
            <a:endCxn id="155" idx="0"/>
          </p:cNvCxnSpPr>
          <p:nvPr/>
        </p:nvCxnSpPr>
        <p:spPr>
          <a:xfrm flipH="1">
            <a:off x="4928760" y="3782880"/>
            <a:ext cx="107280" cy="9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324000" y="295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HEME 3 </a:t>
            </a:r>
            <a:br>
              <a:rPr sz="2800"/>
            </a:br>
            <a:r>
              <a:rPr b="1" i="1" lang="fr-FR" sz="2800" spc="-1" strike="noStrike">
                <a:solidFill>
                  <a:srgbClr val="ff9933"/>
                </a:solidFill>
                <a:latin typeface="Calibri"/>
              </a:rPr>
              <a:t>Qui peut faire valoir ses droits ?</a:t>
            </a:r>
            <a:br>
              <a:rPr sz="2800"/>
            </a:b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(Durée : 15% volume horaire = 10 heures cours et travaux de group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3240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ff9933"/>
                </a:solidFill>
                <a:uFillTx/>
                <a:latin typeface="Calibri"/>
              </a:rPr>
              <a:t>Sens général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ules les personnes juridiques peuvent faire valoir leurs droits comme les êtres humains et les groupements =&gt; le droit les reconnaît pour les protég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ersonnalité juridique  en fait des sujets de droits titulaires de droits et d’obligation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ff9933"/>
                </a:solidFill>
                <a:uFillTx/>
                <a:latin typeface="Calibri"/>
              </a:rPr>
              <a:t>Méthodologi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 Observation de différentes personnes morales de droit public et de droit privé » (exemples pris en transversalité avec le management des organisations) ; étude de situations juridiques concrèt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ff9933"/>
                </a:solidFill>
                <a:uFillTx/>
                <a:latin typeface="Calibri"/>
              </a:rPr>
              <a:t>Notions et contenus </a:t>
            </a:r>
            <a:r>
              <a:rPr b="0" lang="fr-FR" sz="1800" spc="-1" strike="noStrike">
                <a:solidFill>
                  <a:srgbClr val="ff9933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sonne physiqu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sonne mora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611280" y="3049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9933"/>
                </a:solidFill>
                <a:latin typeface="Calibri"/>
              </a:rPr>
              <a:t>THEME 3 SCHEMA NOTIONN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26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74560" y="1004760"/>
            <a:ext cx="110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icture 4"/>
          <p:cNvSpPr/>
          <p:nvPr/>
        </p:nvSpPr>
        <p:spPr>
          <a:xfrm>
            <a:off x="0" y="836640"/>
            <a:ext cx="86518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Rectangle à coins arrondis 6"/>
          <p:cNvSpPr/>
          <p:nvPr/>
        </p:nvSpPr>
        <p:spPr>
          <a:xfrm>
            <a:off x="1785960" y="785880"/>
            <a:ext cx="5857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Seules les personnes juridiques peuvent faire valoir leurs droi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La personnalité juridique en fait des sujets de droit titulaires de droits et d’obligatio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On distingue :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 flipH="1">
            <a:off x="2071080" y="1499760"/>
            <a:ext cx="5007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Connecteur droit avec flèche 10"/>
          <p:cNvCxnSpPr/>
          <p:nvPr/>
        </p:nvCxnSpPr>
        <p:spPr>
          <a:xfrm>
            <a:off x="6213960" y="1499760"/>
            <a:ext cx="42948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1" name="Rectangle à coins arrondis 11"/>
          <p:cNvSpPr/>
          <p:nvPr/>
        </p:nvSpPr>
        <p:spPr>
          <a:xfrm>
            <a:off x="1000080" y="2071800"/>
            <a:ext cx="235764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LES PERSONNES PHYSIQUE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à coins arrondis 12"/>
          <p:cNvSpPr/>
          <p:nvPr/>
        </p:nvSpPr>
        <p:spPr>
          <a:xfrm>
            <a:off x="5214960" y="2071800"/>
            <a:ext cx="292896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LES PERSONNES MORALE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De droit  public ou de droit privé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3" name="Connecteur droit avec flèche 14"/>
          <p:cNvCxnSpPr/>
          <p:nvPr/>
        </p:nvCxnSpPr>
        <p:spPr>
          <a:xfrm>
            <a:off x="2428560" y="2500200"/>
            <a:ext cx="6786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Connecteur droit avec flèche 16"/>
          <p:cNvCxnSpPr>
            <a:stCxn id="172" idx="2"/>
          </p:cNvCxnSpPr>
          <p:nvPr/>
        </p:nvCxnSpPr>
        <p:spPr>
          <a:xfrm flipH="1">
            <a:off x="5785560" y="2571480"/>
            <a:ext cx="8946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Rectangle à coins arrondis 17"/>
          <p:cNvSpPr/>
          <p:nvPr/>
        </p:nvSpPr>
        <p:spPr>
          <a:xfrm>
            <a:off x="2071800" y="3071880"/>
            <a:ext cx="5072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La personnalité juridique donne aux personnes juridiques un ensemble d’attributs qui leur permettent d’être acteurs de la vie en société :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6" name="Connecteur droit avec flèche 19"/>
          <p:cNvCxnSpPr/>
          <p:nvPr/>
        </p:nvCxnSpPr>
        <p:spPr>
          <a:xfrm flipH="1">
            <a:off x="1785600" y="3570840"/>
            <a:ext cx="1178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7" name="Rectangle à coins arrondis 20" descr=""/>
          <p:cNvPicPr/>
          <p:nvPr/>
        </p:nvPicPr>
        <p:blipFill>
          <a:blip r:embed="rId1"/>
          <a:stretch/>
        </p:blipFill>
        <p:spPr>
          <a:xfrm>
            <a:off x="566640" y="4425840"/>
            <a:ext cx="2225880" cy="938160"/>
          </a:xfrm>
          <a:prstGeom prst="rect">
            <a:avLst/>
          </a:prstGeom>
          <a:ln w="0">
            <a:noFill/>
          </a:ln>
        </p:spPr>
      </p:pic>
      <p:cxnSp>
        <p:nvCxnSpPr>
          <p:cNvPr id="178" name="Connecteur droit avec flèche 24"/>
          <p:cNvCxnSpPr/>
          <p:nvPr/>
        </p:nvCxnSpPr>
        <p:spPr>
          <a:xfrm flipH="1">
            <a:off x="4714560" y="3571560"/>
            <a:ext cx="21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9" name="Rectangle à coins arrondis 25" descr=""/>
          <p:cNvPicPr/>
          <p:nvPr/>
        </p:nvPicPr>
        <p:blipFill>
          <a:blip r:embed="rId2"/>
          <a:stretch/>
        </p:blipFill>
        <p:spPr>
          <a:xfrm>
            <a:off x="3206880" y="4425840"/>
            <a:ext cx="3297240" cy="1298520"/>
          </a:xfrm>
          <a:prstGeom prst="rect">
            <a:avLst/>
          </a:prstGeom>
          <a:ln w="0">
            <a:noFill/>
          </a:ln>
        </p:spPr>
      </p:pic>
      <p:cxnSp>
        <p:nvCxnSpPr>
          <p:cNvPr id="180" name="Connecteur droit avec flèche 28"/>
          <p:cNvCxnSpPr/>
          <p:nvPr/>
        </p:nvCxnSpPr>
        <p:spPr>
          <a:xfrm>
            <a:off x="6143760" y="3571560"/>
            <a:ext cx="14292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Rectangle à coins arrondis 29"/>
          <p:cNvSpPr/>
          <p:nvPr/>
        </p:nvSpPr>
        <p:spPr>
          <a:xfrm>
            <a:off x="6929280" y="4500720"/>
            <a:ext cx="178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Elles sont RECONNUES et PROTEGEES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par le droi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324000" y="2133720"/>
            <a:ext cx="82296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b050"/>
                </a:solidFill>
                <a:uFillTx/>
                <a:latin typeface="Calibri"/>
              </a:rPr>
              <a:t> </a:t>
            </a:r>
            <a:r>
              <a:rPr b="1" lang="fr-FR" sz="1800" spc="-1" strike="noStrike" u="sng">
                <a:solidFill>
                  <a:srgbClr val="00b050"/>
                </a:solidFill>
                <a:uFillTx/>
                <a:latin typeface="Calibri"/>
              </a:rPr>
              <a:t>Sens général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onnaissance de prérogatives individuelles pour les personnes pour agir en société et être protégé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istinction entre droits extrapatrimoniaux (attachés à la personne) et les droits patrimoniaux (patrimoine de la personne) avec étude du droit de propriété portant sur biens corporels et incorporels (exemple du droit de la propriété industrielle avec comme illustratio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la marque commercial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b050"/>
                </a:solidFill>
                <a:uFillTx/>
                <a:latin typeface="Calibri"/>
              </a:rPr>
              <a:t>Notions et contenus 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droits de la person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droits sur les biens : le droit de propriété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9640" y="266760"/>
            <a:ext cx="8353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HEME 4</a:t>
            </a:r>
            <a:br>
              <a:rPr sz="4000"/>
            </a:br>
            <a:r>
              <a:rPr b="1" i="1" lang="fr-FR" sz="2800" spc="-1" strike="noStrike">
                <a:solidFill>
                  <a:srgbClr val="00b050"/>
                </a:solidFill>
                <a:latin typeface="Calibri"/>
              </a:rPr>
              <a:t>Quels sont les droits reconnus aux personnes ?</a:t>
            </a:r>
            <a:br>
              <a:rPr sz="2800"/>
            </a:b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(Durée : 15 % = 10h du volume horaire avec cours et travaux de group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68360" y="260280"/>
            <a:ext cx="3681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THEME 4 SCHEMA NOTIONN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633920" y="3114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618800" y="395280"/>
            <a:ext cx="21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54080" y="3952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2355840" y="698400"/>
            <a:ext cx="3944880" cy="39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S SONT LES DROITS RECONNUS AUX PERSONNES 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0" name="AutoShape 11" descr=""/>
          <p:cNvPicPr/>
          <p:nvPr/>
        </p:nvPicPr>
        <p:blipFill>
          <a:blip r:embed="rId1"/>
          <a:stretch/>
        </p:blipFill>
        <p:spPr>
          <a:xfrm>
            <a:off x="4352760" y="1847880"/>
            <a:ext cx="3724560" cy="10904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5"/>
          <p:cNvSpPr/>
          <p:nvPr/>
        </p:nvSpPr>
        <p:spPr>
          <a:xfrm>
            <a:off x="3500280" y="3500280"/>
            <a:ext cx="1400400" cy="95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es caractères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bsolu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xclusi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pétu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icture 17"/>
          <p:cNvSpPr/>
          <p:nvPr/>
        </p:nvSpPr>
        <p:spPr>
          <a:xfrm>
            <a:off x="6802560" y="3565440"/>
            <a:ext cx="209700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-68436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4481640" y="20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4466520" y="243000"/>
            <a:ext cx="21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457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à coins arrondis 34"/>
          <p:cNvSpPr/>
          <p:nvPr/>
        </p:nvSpPr>
        <p:spPr>
          <a:xfrm>
            <a:off x="214200" y="1857240"/>
            <a:ext cx="37864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Les droits de la person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b050"/>
                </a:solidFill>
                <a:latin typeface="Calibri"/>
                <a:ea typeface="Arial"/>
              </a:rPr>
              <a:t>(droits extra-patrimoniaux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Etudiés à partir du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DROIT AU RESPECT DE LA VIE PRIVEE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(appartenant aux droits de la personnalité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sont protégés par le droit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à coins arrondis 40"/>
          <p:cNvSpPr/>
          <p:nvPr/>
        </p:nvSpPr>
        <p:spPr>
          <a:xfrm>
            <a:off x="642960" y="350028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Ces  droits son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Inaliénabl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Imprescriptibl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Insaisissabl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Connecteur droit 48"/>
          <p:cNvSpPr/>
          <p:nvPr/>
        </p:nvSpPr>
        <p:spPr>
          <a:xfrm>
            <a:off x="1714680" y="1571760"/>
            <a:ext cx="4286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Connecteur droit 51"/>
          <p:cNvSpPr/>
          <p:nvPr/>
        </p:nvSpPr>
        <p:spPr>
          <a:xfrm flipH="1">
            <a:off x="4214880" y="107172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1" name="Connecteur droit avec flèche 58"/>
          <p:cNvCxnSpPr/>
          <p:nvPr/>
        </p:nvCxnSpPr>
        <p:spPr>
          <a:xfrm flipH="1">
            <a:off x="4285440" y="31431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Connecteur droit avec flèche 60"/>
          <p:cNvCxnSpPr/>
          <p:nvPr/>
        </p:nvCxnSpPr>
        <p:spPr>
          <a:xfrm flipH="1">
            <a:off x="5857560" y="3143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Rectangle à coins arrondis 61"/>
          <p:cNvSpPr/>
          <p:nvPr/>
        </p:nvSpPr>
        <p:spPr>
          <a:xfrm>
            <a:off x="6732720" y="3500280"/>
            <a:ext cx="2268360" cy="1428840"/>
          </a:xfrm>
          <a:prstGeom prst="roundRect">
            <a:avLst>
              <a:gd name="adj" fmla="val 7255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Il porte sur les biens corporels et incorporels 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illustration du droit de propriété industrielle avec la </a:t>
            </a:r>
            <a:r>
              <a:rPr b="1" lang="fr-FR" sz="1200" spc="-1" strike="noStrike">
                <a:solidFill>
                  <a:srgbClr val="00b050"/>
                </a:solidFill>
                <a:latin typeface="Calibri"/>
                <a:ea typeface="Arial"/>
              </a:rPr>
              <a:t>marque commerciale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conférant un </a:t>
            </a:r>
            <a:r>
              <a:rPr b="1" lang="fr-FR" sz="1200" spc="-1" strike="noStrike">
                <a:solidFill>
                  <a:srgbClr val="00b050"/>
                </a:solidFill>
                <a:latin typeface="Calibri"/>
                <a:ea typeface="Arial"/>
              </a:rPr>
              <a:t>monopole d’exploitation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et une </a:t>
            </a:r>
            <a:r>
              <a:rPr b="1" lang="fr-FR" sz="1200" spc="-1" strike="noStrike">
                <a:solidFill>
                  <a:srgbClr val="00b050"/>
                </a:solidFill>
                <a:latin typeface="Calibri"/>
                <a:ea typeface="Arial"/>
              </a:rPr>
              <a:t>protection contre la contrefaçon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4" name="Connecteur droit avec flèche 64"/>
          <p:cNvCxnSpPr/>
          <p:nvPr/>
        </p:nvCxnSpPr>
        <p:spPr>
          <a:xfrm flipH="1">
            <a:off x="1641240" y="3000240"/>
            <a:ext cx="216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Connecteur droit 67"/>
          <p:cNvSpPr/>
          <p:nvPr/>
        </p:nvSpPr>
        <p:spPr>
          <a:xfrm>
            <a:off x="4286160" y="3143160"/>
            <a:ext cx="3500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Connecteur droit 75"/>
          <p:cNvSpPr/>
          <p:nvPr/>
        </p:nvSpPr>
        <p:spPr>
          <a:xfrm flipH="1">
            <a:off x="5857920" y="292896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" name="Connecteur droit avec flèche 77"/>
          <p:cNvCxnSpPr/>
          <p:nvPr/>
        </p:nvCxnSpPr>
        <p:spPr>
          <a:xfrm flipH="1">
            <a:off x="1714320" y="1571400"/>
            <a:ext cx="21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Connecteur droit avec flèche 79"/>
          <p:cNvCxnSpPr/>
          <p:nvPr/>
        </p:nvCxnSpPr>
        <p:spPr>
          <a:xfrm flipH="1">
            <a:off x="6000480" y="1571400"/>
            <a:ext cx="21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Connecteur droit avec flèche 81"/>
          <p:cNvCxnSpPr>
            <a:stCxn id="203" idx="2"/>
          </p:cNvCxnSpPr>
          <p:nvPr/>
        </p:nvCxnSpPr>
        <p:spPr>
          <a:xfrm flipH="1">
            <a:off x="7857360" y="4928760"/>
            <a:ext cx="1044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0" name="Rectangle à coins arrondis 83"/>
          <p:cNvSpPr/>
          <p:nvPr/>
        </p:nvSpPr>
        <p:spPr>
          <a:xfrm>
            <a:off x="5003640" y="5373720"/>
            <a:ext cx="3888000" cy="77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Comparaison  des Biens corporels et Biens incorporel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Point commun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Arial"/>
              </a:rPr>
              <a:t>Eléments du patrimoine et protégés à ce titr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Différence : 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Arial"/>
              </a:rPr>
              <a:t>Critère de matérialité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Connecteur droit avec flèche 37"/>
          <p:cNvCxnSpPr/>
          <p:nvPr/>
        </p:nvCxnSpPr>
        <p:spPr>
          <a:xfrm flipH="1">
            <a:off x="7786440" y="3143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2" name="Rectangle à coins arrondis 31" descr=""/>
          <p:cNvPicPr/>
          <p:nvPr/>
        </p:nvPicPr>
        <p:blipFill>
          <a:blip r:embed="rId2"/>
          <a:stretch/>
        </p:blipFill>
        <p:spPr>
          <a:xfrm>
            <a:off x="4992840" y="3492360"/>
            <a:ext cx="165708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755640" y="260280"/>
            <a:ext cx="7416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THEME 5</a:t>
            </a:r>
            <a:br>
              <a:rPr sz="4000"/>
            </a:br>
            <a:r>
              <a:rPr b="1" i="1" lang="fr-FR" sz="2800" spc="-1" strike="noStrike">
                <a:solidFill>
                  <a:srgbClr val="ff9933"/>
                </a:solidFill>
                <a:latin typeface="Calibri"/>
              </a:rPr>
              <a:t>Quel est le rôle du contrat?</a:t>
            </a:r>
            <a:br>
              <a:rPr sz="3200"/>
            </a:b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(Durée : 25 % =  15h du volume horaire avec cours et travaux de group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395280" y="1773360"/>
            <a:ext cx="8424720" cy="52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titulé du thème =  Rôle du contrat = Quelles sont ces fonctions 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équence = axer le cours (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cret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 en fonction de cette approche (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en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at est un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instrument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 la vie économique et social (support de l’échange) 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ien de droi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oulu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= autonomie de la volonté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ffets recherchés entr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usieurs personn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qu’il faut parfois protég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réateur d’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ligation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de prestation ou d’abstention (donner, faire, ne pas fair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lustration par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ises en situation réell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ns des domaines diver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iberté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de choix des enseignants sur les contrats étudié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n impératif : l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rat de consomm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 u="sng">
                <a:solidFill>
                  <a:srgbClr val="ff9933"/>
                </a:solidFill>
                <a:uFillTx/>
                <a:latin typeface="Calibri"/>
              </a:rPr>
              <a:t>Notions et contenus 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ormation du contenu / L’exécution du contrat / Le contrat de consomm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icture 4"/>
          <p:cNvSpPr/>
          <p:nvPr/>
        </p:nvSpPr>
        <p:spPr>
          <a:xfrm>
            <a:off x="539640" y="1844640"/>
            <a:ext cx="73656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36480" y="1844640"/>
            <a:ext cx="736560" cy="6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241200" y="189000"/>
            <a:ext cx="285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9933"/>
                </a:solidFill>
                <a:latin typeface="Calibri"/>
              </a:rPr>
              <a:t>THEME 5 SCHEMA NOTIONN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3284640" y="317520"/>
            <a:ext cx="2655720" cy="39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 EST LE ROLE DU CONTRAT…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280" y="1197000"/>
            <a:ext cx="2305080" cy="39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U STADE DE SA FORMATION ?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02000" y="1211400"/>
            <a:ext cx="2421000" cy="390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ORS DE SON EXÉCUTION 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6516720" y="1197000"/>
            <a:ext cx="2232000" cy="39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DE CONSOMMATION 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108000" y="2038320"/>
            <a:ext cx="1603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b0f0"/>
                </a:solidFill>
                <a:latin typeface="Calibri"/>
                <a:ea typeface="Times New Roman"/>
              </a:rPr>
              <a:t>Création d’un lien de droit </a:t>
            </a:r>
            <a:r>
              <a:rPr b="0" lang="fr-FR" sz="12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voulu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1442880" y="2916360"/>
            <a:ext cx="163692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b0f0"/>
                </a:solidFill>
                <a:latin typeface="Calibri"/>
                <a:ea typeface="Times New Roman"/>
              </a:rPr>
              <a:t>Organisation de la vie économique et socia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68360" y="3860640"/>
            <a:ext cx="2374920" cy="3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entement libre et éclairé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68360" y="4365720"/>
            <a:ext cx="2374920" cy="32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ies juridiquement capabl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465120" y="4869000"/>
            <a:ext cx="2376360" cy="32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 certain, déterminé et licit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482760" y="5373720"/>
            <a:ext cx="237636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use licite et conforme aux bonnes mœur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8" name="Connecteur droit avec flèche 18"/>
          <p:cNvCxnSpPr>
            <a:stCxn id="218" idx="2"/>
            <a:endCxn id="219" idx="0"/>
          </p:cNvCxnSpPr>
          <p:nvPr/>
        </p:nvCxnSpPr>
        <p:spPr>
          <a:xfrm flipH="1">
            <a:off x="1546920" y="708120"/>
            <a:ext cx="306468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Connecteur droit avec flèche 20"/>
          <p:cNvCxnSpPr>
            <a:stCxn id="218" idx="2"/>
            <a:endCxn id="220" idx="0"/>
          </p:cNvCxnSpPr>
          <p:nvPr/>
        </p:nvCxnSpPr>
        <p:spPr>
          <a:xfrm>
            <a:off x="4611240" y="708120"/>
            <a:ext cx="25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Connecteur droit avec flèche 22"/>
          <p:cNvCxnSpPr>
            <a:stCxn id="218" idx="2"/>
            <a:endCxn id="221" idx="0"/>
          </p:cNvCxnSpPr>
          <p:nvPr/>
        </p:nvCxnSpPr>
        <p:spPr>
          <a:xfrm>
            <a:off x="4611600" y="708120"/>
            <a:ext cx="302184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Connecteur droit avec flèche 24"/>
          <p:cNvCxnSpPr>
            <a:stCxn id="219" idx="2"/>
            <a:endCxn id="222" idx="0"/>
          </p:cNvCxnSpPr>
          <p:nvPr/>
        </p:nvCxnSpPr>
        <p:spPr>
          <a:xfrm flipH="1">
            <a:off x="909720" y="1587600"/>
            <a:ext cx="63828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Connecteur droit 30"/>
          <p:cNvSpPr/>
          <p:nvPr/>
        </p:nvSpPr>
        <p:spPr>
          <a:xfrm>
            <a:off x="324000" y="2689200"/>
            <a:ext cx="0" cy="18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33" name="Connecteur droit avec flèche 25601"/>
          <p:cNvCxnSpPr>
            <a:endCxn id="225" idx="1"/>
          </p:cNvCxnSpPr>
          <p:nvPr/>
        </p:nvCxnSpPr>
        <p:spPr>
          <a:xfrm>
            <a:off x="323640" y="452736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Connecteur droit avec flèche 25603"/>
          <p:cNvCxnSpPr>
            <a:endCxn id="224" idx="1"/>
          </p:cNvCxnSpPr>
          <p:nvPr/>
        </p:nvCxnSpPr>
        <p:spPr>
          <a:xfrm>
            <a:off x="323640" y="402228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5" name="Connecteur droit 25605"/>
          <p:cNvSpPr/>
          <p:nvPr/>
        </p:nvSpPr>
        <p:spPr>
          <a:xfrm>
            <a:off x="2970360" y="3584520"/>
            <a:ext cx="0" cy="20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36" name="Connecteur droit avec flèche 25607"/>
          <p:cNvCxnSpPr>
            <a:endCxn id="226" idx="3"/>
          </p:cNvCxnSpPr>
          <p:nvPr/>
        </p:nvCxnSpPr>
        <p:spPr>
          <a:xfrm flipH="1">
            <a:off x="2841480" y="5025600"/>
            <a:ext cx="129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Connecteur droit avec flèche 25609"/>
          <p:cNvCxnSpPr>
            <a:endCxn id="227" idx="3"/>
          </p:cNvCxnSpPr>
          <p:nvPr/>
        </p:nvCxnSpPr>
        <p:spPr>
          <a:xfrm flipH="1">
            <a:off x="2858400" y="5624640"/>
            <a:ext cx="111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8" name="AutoShape 6" descr=""/>
          <p:cNvPicPr/>
          <p:nvPr/>
        </p:nvPicPr>
        <p:blipFill>
          <a:blip r:embed="rId1"/>
          <a:stretch/>
        </p:blipFill>
        <p:spPr>
          <a:xfrm>
            <a:off x="171360" y="5999040"/>
            <a:ext cx="3121200" cy="6764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4716360" y="1868400"/>
            <a:ext cx="1800360" cy="82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b0f0"/>
                </a:solidFill>
                <a:latin typeface="Calibri"/>
                <a:ea typeface="Times New Roman"/>
              </a:rPr>
              <a:t>Organisation de la vie éco et sociale = effets obligatoire et relatif du contra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2835360" y="1992240"/>
            <a:ext cx="151272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b0f0"/>
                </a:solidFill>
                <a:latin typeface="Calibri"/>
                <a:ea typeface="Times New Roman"/>
              </a:rPr>
              <a:t>Adapter le contrat aux besoins des contracta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41" name="Connecteur droit avec flèche 25611"/>
          <p:cNvCxnSpPr/>
          <p:nvPr/>
        </p:nvCxnSpPr>
        <p:spPr>
          <a:xfrm>
            <a:off x="1582560" y="1609200"/>
            <a:ext cx="2044080" cy="40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Connecteur droit avec flèche 25613"/>
          <p:cNvCxnSpPr>
            <a:stCxn id="220" idx="2"/>
            <a:endCxn id="240" idx="0"/>
          </p:cNvCxnSpPr>
          <p:nvPr/>
        </p:nvCxnSpPr>
        <p:spPr>
          <a:xfrm flipH="1">
            <a:off x="3590640" y="1601280"/>
            <a:ext cx="10231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3" name="AutoShape 6"/>
          <p:cNvSpPr/>
          <p:nvPr/>
        </p:nvSpPr>
        <p:spPr>
          <a:xfrm>
            <a:off x="3625920" y="2973240"/>
            <a:ext cx="252360" cy="3695760"/>
          </a:xfrm>
          <a:custGeom>
            <a:avLst/>
            <a:gdLst>
              <a:gd name="textAreaLeft" fmla="*/ 12240 w 252360"/>
              <a:gd name="textAreaRight" fmla="*/ 240120 w 252360"/>
              <a:gd name="textAreaTop" fmla="*/ 12240 h 3695760"/>
              <a:gd name="textAreaBottom" fmla="*/ 3683520 h 3695760"/>
            </a:gdLst>
            <a:ahLst/>
            <a:rect l="textAreaLeft" t="textAreaTop" r="textAreaRight" b="textAreaBottom"/>
            <a:pathLst>
              <a:path w="21600" h="315908">
                <a:moveTo>
                  <a:pt x="3600" y="0"/>
                </a:moveTo>
                <a:arcTo wR="3600" hR="3600" stAng="16200000" swAng="-5400000"/>
                <a:lnTo>
                  <a:pt x="0" y="312308"/>
                </a:lnTo>
                <a:arcTo wR="3600" hR="3600" stAng="10800000" swAng="-5400000"/>
                <a:lnTo>
                  <a:pt x="18000" y="3159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laus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pécifiqu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44" name="Connecteur droit avec flèche 25615"/>
          <p:cNvCxnSpPr>
            <a:endCxn id="243" idx="0"/>
          </p:cNvCxnSpPr>
          <p:nvPr/>
        </p:nvCxnSpPr>
        <p:spPr>
          <a:xfrm>
            <a:off x="3752640" y="2637000"/>
            <a:ext cx="1080" cy="33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Connecteur droit avec flèche 25618"/>
          <p:cNvCxnSpPr>
            <a:stCxn id="220" idx="2"/>
            <a:endCxn id="239" idx="0"/>
          </p:cNvCxnSpPr>
          <p:nvPr/>
        </p:nvCxnSpPr>
        <p:spPr>
          <a:xfrm>
            <a:off x="4613040" y="1601280"/>
            <a:ext cx="10036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6" name="AutoShape 6"/>
          <p:cNvSpPr/>
          <p:nvPr/>
        </p:nvSpPr>
        <p:spPr>
          <a:xfrm>
            <a:off x="4219560" y="2982960"/>
            <a:ext cx="1513080" cy="51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nexécution du contra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47" name="Connecteur droit avec flèche 25620"/>
          <p:cNvCxnSpPr>
            <a:endCxn id="246" idx="0"/>
          </p:cNvCxnSpPr>
          <p:nvPr/>
        </p:nvCxnSpPr>
        <p:spPr>
          <a:xfrm>
            <a:off x="3752640" y="2636640"/>
            <a:ext cx="122436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AutoShape 6"/>
          <p:cNvSpPr/>
          <p:nvPr/>
        </p:nvSpPr>
        <p:spPr>
          <a:xfrm>
            <a:off x="4683240" y="3664080"/>
            <a:ext cx="1654200" cy="35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Mise en demeu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691160" y="4100400"/>
            <a:ext cx="163836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xécution en natu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4703760" y="4527720"/>
            <a:ext cx="1611360" cy="49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xécution par équivalen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4743360" y="5113440"/>
            <a:ext cx="1603440" cy="51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esponsabilité contractuel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Connecteur droit 25622"/>
          <p:cNvSpPr/>
          <p:nvPr/>
        </p:nvSpPr>
        <p:spPr>
          <a:xfrm>
            <a:off x="4348080" y="3500280"/>
            <a:ext cx="0" cy="283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3" name="Connecteur droit avec flèche 25624"/>
          <p:cNvCxnSpPr>
            <a:endCxn id="251" idx="1"/>
          </p:cNvCxnSpPr>
          <p:nvPr/>
        </p:nvCxnSpPr>
        <p:spPr>
          <a:xfrm>
            <a:off x="4532400" y="5373360"/>
            <a:ext cx="21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Connecteur droit avec flèche 31"/>
          <p:cNvCxnSpPr>
            <a:endCxn id="250" idx="1"/>
          </p:cNvCxnSpPr>
          <p:nvPr/>
        </p:nvCxnSpPr>
        <p:spPr>
          <a:xfrm>
            <a:off x="4546080" y="4776480"/>
            <a:ext cx="158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Connecteur droit avec flèche 33"/>
          <p:cNvCxnSpPr>
            <a:endCxn id="249" idx="1"/>
          </p:cNvCxnSpPr>
          <p:nvPr/>
        </p:nvCxnSpPr>
        <p:spPr>
          <a:xfrm>
            <a:off x="4524120" y="4279680"/>
            <a:ext cx="167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Connecteur droit avec flèche 35"/>
          <p:cNvCxnSpPr>
            <a:endCxn id="248" idx="1"/>
          </p:cNvCxnSpPr>
          <p:nvPr/>
        </p:nvCxnSpPr>
        <p:spPr>
          <a:xfrm>
            <a:off x="4524120" y="383976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AutoShape 6"/>
          <p:cNvSpPr/>
          <p:nvPr/>
        </p:nvSpPr>
        <p:spPr>
          <a:xfrm>
            <a:off x="4734000" y="5727600"/>
            <a:ext cx="1603440" cy="509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xception d’inexécu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753080" y="6335640"/>
            <a:ext cx="1593720" cy="35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ésolution du contrat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Connecteur droit 50"/>
          <p:cNvSpPr/>
          <p:nvPr/>
        </p:nvSpPr>
        <p:spPr>
          <a:xfrm>
            <a:off x="3284640" y="6335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necteur droit 52"/>
          <p:cNvSpPr/>
          <p:nvPr/>
        </p:nvSpPr>
        <p:spPr>
          <a:xfrm>
            <a:off x="3959280" y="63356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onnecteur droit avec flèche 54"/>
          <p:cNvCxnSpPr/>
          <p:nvPr/>
        </p:nvCxnSpPr>
        <p:spPr>
          <a:xfrm>
            <a:off x="3779640" y="6335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necteur droit avec flèche 64"/>
          <p:cNvCxnSpPr/>
          <p:nvPr/>
        </p:nvCxnSpPr>
        <p:spPr>
          <a:xfrm>
            <a:off x="3897000" y="633528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Connecteur droit avec flèche 66"/>
          <p:cNvCxnSpPr/>
          <p:nvPr/>
        </p:nvCxnSpPr>
        <p:spPr>
          <a:xfrm flipV="1">
            <a:off x="4348080" y="5970240"/>
            <a:ext cx="39600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Connecteur droit avec flèche 68"/>
          <p:cNvCxnSpPr>
            <a:endCxn id="258" idx="1"/>
          </p:cNvCxnSpPr>
          <p:nvPr/>
        </p:nvCxnSpPr>
        <p:spPr>
          <a:xfrm>
            <a:off x="4347720" y="6324120"/>
            <a:ext cx="40572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Connecteur droit 73"/>
          <p:cNvSpPr/>
          <p:nvPr/>
        </p:nvSpPr>
        <p:spPr>
          <a:xfrm>
            <a:off x="4516560" y="3500280"/>
            <a:ext cx="1584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6875640" y="1920960"/>
            <a:ext cx="1512720" cy="66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b0f0"/>
                </a:solidFill>
                <a:latin typeface="Calibri"/>
                <a:ea typeface="Times New Roman"/>
              </a:rPr>
              <a:t>Sécuriser les relations entre les contracta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Connecteur droit avec flèche 79"/>
          <p:cNvCxnSpPr>
            <a:stCxn id="221" idx="2"/>
            <a:endCxn id="266" idx="0"/>
          </p:cNvCxnSpPr>
          <p:nvPr/>
        </p:nvCxnSpPr>
        <p:spPr>
          <a:xfrm flipH="1">
            <a:off x="7632000" y="1587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" name="AutoShape 6"/>
          <p:cNvSpPr/>
          <p:nvPr/>
        </p:nvSpPr>
        <p:spPr>
          <a:xfrm>
            <a:off x="6875640" y="2857680"/>
            <a:ext cx="151272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tection de la partie faible: consommate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9" name="Connecteur droit avec flèche 81"/>
          <p:cNvCxnSpPr>
            <a:stCxn id="266" idx="2"/>
            <a:endCxn id="268" idx="0"/>
          </p:cNvCxnSpPr>
          <p:nvPr/>
        </p:nvCxnSpPr>
        <p:spPr>
          <a:xfrm>
            <a:off x="7632360" y="2584080"/>
            <a:ext cx="108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0" name="AutoShape 6"/>
          <p:cNvSpPr/>
          <p:nvPr/>
        </p:nvSpPr>
        <p:spPr>
          <a:xfrm>
            <a:off x="7164360" y="3652920"/>
            <a:ext cx="1513080" cy="64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bligation d’information du consommate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7164360" y="4498920"/>
            <a:ext cx="1513080" cy="53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roit de repentir du consommate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7164360" y="5254560"/>
            <a:ext cx="1513080" cy="32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lauses abusiv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3" name="AutoShape 6" descr=""/>
          <p:cNvPicPr/>
          <p:nvPr/>
        </p:nvPicPr>
        <p:blipFill>
          <a:blip r:embed="rId2"/>
          <a:stretch/>
        </p:blipFill>
        <p:spPr>
          <a:xfrm>
            <a:off x="7182000" y="5772240"/>
            <a:ext cx="1528560" cy="476280"/>
          </a:xfrm>
          <a:prstGeom prst="rect">
            <a:avLst/>
          </a:prstGeom>
          <a:ln w="0">
            <a:noFill/>
          </a:ln>
        </p:spPr>
      </p:pic>
      <p:sp>
        <p:nvSpPr>
          <p:cNvPr id="274" name="Connecteur droit 83"/>
          <p:cNvSpPr/>
          <p:nvPr/>
        </p:nvSpPr>
        <p:spPr>
          <a:xfrm>
            <a:off x="7020000" y="350028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75" name="Connecteur droit avec flèche 85"/>
          <p:cNvCxnSpPr>
            <a:endCxn id="272" idx="1"/>
          </p:cNvCxnSpPr>
          <p:nvPr/>
        </p:nvCxnSpPr>
        <p:spPr>
          <a:xfrm>
            <a:off x="7019640" y="541620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Connecteur droit avec flèche 87"/>
          <p:cNvCxnSpPr>
            <a:endCxn id="271" idx="1"/>
          </p:cNvCxnSpPr>
          <p:nvPr/>
        </p:nvCxnSpPr>
        <p:spPr>
          <a:xfrm>
            <a:off x="7019640" y="476532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Connecteur droit avec flèche 89"/>
          <p:cNvCxnSpPr>
            <a:endCxn id="270" idx="1"/>
          </p:cNvCxnSpPr>
          <p:nvPr/>
        </p:nvCxnSpPr>
        <p:spPr>
          <a:xfrm>
            <a:off x="7019640" y="397476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78" name="AutoShape 6" descr=""/>
          <p:cNvPicPr/>
          <p:nvPr/>
        </p:nvPicPr>
        <p:blipFill>
          <a:blip r:embed="rId3"/>
          <a:stretch/>
        </p:blipFill>
        <p:spPr>
          <a:xfrm>
            <a:off x="6218280" y="311040"/>
            <a:ext cx="2676600" cy="536760"/>
          </a:xfrm>
          <a:prstGeom prst="rect">
            <a:avLst/>
          </a:prstGeom>
          <a:ln w="0">
            <a:noFill/>
          </a:ln>
        </p:spPr>
      </p:pic>
      <p:cxnSp>
        <p:nvCxnSpPr>
          <p:cNvPr id="279" name="Connecteur droit avec flèche 8"/>
          <p:cNvCxnSpPr>
            <a:stCxn id="218" idx="3"/>
            <a:endCxn id="278" idx="1"/>
          </p:cNvCxnSpPr>
          <p:nvPr/>
        </p:nvCxnSpPr>
        <p:spPr>
          <a:xfrm>
            <a:off x="5940360" y="512280"/>
            <a:ext cx="28800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Connecteur droit avec flèche 24"/>
          <p:cNvCxnSpPr>
            <a:stCxn id="219" idx="2"/>
            <a:endCxn id="223" idx="0"/>
          </p:cNvCxnSpPr>
          <p:nvPr/>
        </p:nvCxnSpPr>
        <p:spPr>
          <a:xfrm>
            <a:off x="1547640" y="1587240"/>
            <a:ext cx="713520" cy="13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1" name="ZoneTexte 10"/>
          <p:cNvSpPr/>
          <p:nvPr/>
        </p:nvSpPr>
        <p:spPr>
          <a:xfrm>
            <a:off x="809640" y="1554120"/>
            <a:ext cx="6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 rôl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ZoneTexte 80"/>
          <p:cNvSpPr/>
          <p:nvPr/>
        </p:nvSpPr>
        <p:spPr>
          <a:xfrm>
            <a:off x="3103560" y="263700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 d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ZoneTexte 81"/>
          <p:cNvSpPr/>
          <p:nvPr/>
        </p:nvSpPr>
        <p:spPr>
          <a:xfrm>
            <a:off x="4929120" y="2774880"/>
            <a:ext cx="7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 cas d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ZoneTexte 82"/>
          <p:cNvSpPr/>
          <p:nvPr/>
        </p:nvSpPr>
        <p:spPr>
          <a:xfrm>
            <a:off x="4478400" y="344664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ZoneTexte 83"/>
          <p:cNvSpPr/>
          <p:nvPr/>
        </p:nvSpPr>
        <p:spPr>
          <a:xfrm>
            <a:off x="7191360" y="257652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86" name="Connecteur droit avec flèche 4"/>
          <p:cNvCxnSpPr/>
          <p:nvPr/>
        </p:nvCxnSpPr>
        <p:spPr>
          <a:xfrm flipH="1">
            <a:off x="5722560" y="2689200"/>
            <a:ext cx="21816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515960" y="61920"/>
            <a:ext cx="64803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MÉTHODOLOGIES PROPRES À LA MATIÈ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539640" y="1268280"/>
            <a:ext cx="82090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alibri"/>
              </a:rPr>
              <a:t>Approche pragmat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 de l’apprentissage méthodologique d’une réflex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tructurée correspondant à l’ex-partie rédactionnell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Calibri"/>
              </a:rPr>
              <a:t>MAIS l’exigence d’une réflexion structuré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sens du maintien d’un savoir-faire rédactionnel</a:t>
            </a:r>
            <a:r>
              <a:rPr b="0" lang="fr-FR" sz="24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’élève, reste fondamentale et nécessite une pratique régulière : argumentation, qualification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résolution de </a:t>
            </a:r>
            <a:r>
              <a:rPr b="1" lang="fr-FR" sz="2400" spc="-1" strike="noStrike">
                <a:solidFill>
                  <a:srgbClr val="00b050"/>
                </a:solidFill>
                <a:latin typeface="Calibri"/>
              </a:rPr>
              <a:t>cas pratiqu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bsiste et se trouve renforcé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lle servira aussi bien d’ossatur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à la construction des cours qu’à l’évaluation fin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lnSpc>
                <a:spcPct val="15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Image 3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0" y="293760"/>
            <a:ext cx="91440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UNE MATIERE PROPICE A LA DÉMARCHE TECHNOLOGIQUE </a:t>
            </a:r>
            <a:r>
              <a:rPr b="1" lang="fr-FR" sz="2500" spc="-1" strike="noStrike">
                <a:solidFill>
                  <a:srgbClr val="ff9933"/>
                </a:solidFill>
                <a:latin typeface="Calibri"/>
              </a:rPr>
              <a:t>O.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b050"/>
                </a:solidFill>
                <a:latin typeface="Calibri"/>
              </a:rPr>
              <a:t>A.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ff9933"/>
                </a:solidFill>
                <a:latin typeface="Calibri"/>
              </a:rPr>
              <a:t>C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1" name="Text Box 2"/>
          <p:cNvGrpSpPr/>
          <p:nvPr/>
        </p:nvGrpSpPr>
        <p:grpSpPr>
          <a:xfrm>
            <a:off x="426960" y="1047600"/>
            <a:ext cx="8236080" cy="5694480"/>
            <a:chOff x="426960" y="1047600"/>
            <a:chExt cx="8236080" cy="569448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426960" y="1047600"/>
              <a:ext cx="8236080" cy="56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26960" y="1052640"/>
              <a:ext cx="8229600" cy="56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La méthode O. A. C. présente des similitudes avec la méthodologie de résolution de cas pratique :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1 : Prendre connaissance des faits présentés et déterminer le problème de fait né d’une situation (= </a:t>
              </a: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servation)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2 : Qualifier juridiquement la situation (faits, parties, problème </a:t>
              </a: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juridique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(= </a:t>
              </a: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</a:t>
              </a: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nalyse + </a:t>
              </a: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C</a:t>
              </a: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onceptualisation)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3 : Identifier les règles générales applicables à la catégorie juridiqu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repérée afin de proposer une conclusion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4 : Résoudre le cas par un raisonnement argumenté </a:t>
              </a:r>
              <a:r>
                <a:rPr b="0" lang="fr-F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rédigé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e syllogisme est un outil méthodologique qui va aider l’élève à structurer sa réflexion.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5:  Cours de l’élève : Généralisation du cas (2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niveau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onceptualisation)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844560"/>
                  <a:tab algn="l" pos="1758960"/>
                  <a:tab algn="l" pos="2673360"/>
                  <a:tab algn="l" pos="3587760"/>
                  <a:tab algn="l" pos="4502160"/>
                  <a:tab algn="l" pos="5416560"/>
                  <a:tab algn="l" pos="6330960"/>
                  <a:tab algn="l" pos="7245360"/>
                  <a:tab algn="l" pos="8159760"/>
                  <a:tab algn="l" pos="9074160"/>
                  <a:tab algn="l" pos="998856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4" name="Image 3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2" descr=""/>
          <p:cNvPicPr/>
          <p:nvPr/>
        </p:nvPicPr>
        <p:blipFill>
          <a:blip r:embed="rId1"/>
          <a:stretch/>
        </p:blipFill>
        <p:spPr>
          <a:xfrm>
            <a:off x="34920" y="297000"/>
            <a:ext cx="9109080" cy="6516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808080"/>
            </a:outerShdw>
          </a:effectLst>
        </p:spPr>
      </p:pic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EROULEMENT DU STA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20840" y="914400"/>
            <a:ext cx="5903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alibri"/>
              </a:rPr>
              <a:t>I. Présentation de la réforme en dro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alibri"/>
              </a:rPr>
              <a:t>II. Temps d’échange entre collègues et préparation de quest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alibri"/>
              </a:rPr>
              <a:t>III. Réponses aux questions posé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Image 3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324000" y="6039000"/>
            <a:ext cx="203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Calibri"/>
              </a:rPr>
              <a:t>CARDOT Sabine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Calibri"/>
              </a:rPr>
              <a:t>Lycée Mangin, Sarrebourg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ZoneTexte 10"/>
          <p:cNvSpPr/>
          <p:nvPr/>
        </p:nvSpPr>
        <p:spPr>
          <a:xfrm>
            <a:off x="2556000" y="6019920"/>
            <a:ext cx="172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Calibri"/>
              </a:rPr>
              <a:t>LARAGÉ François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Calibri"/>
              </a:rPr>
              <a:t>Lycée Chopin, Nancy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ZoneTexte 11"/>
          <p:cNvSpPr/>
          <p:nvPr/>
        </p:nvSpPr>
        <p:spPr>
          <a:xfrm>
            <a:off x="4503600" y="6019920"/>
            <a:ext cx="212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Calibri"/>
              </a:rPr>
              <a:t>SCHLACHTER Véronique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Calibri"/>
              </a:rPr>
              <a:t>Lycée Poincaré, Bar le Duc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ZoneTexte 12"/>
          <p:cNvSpPr/>
          <p:nvPr/>
        </p:nvSpPr>
        <p:spPr>
          <a:xfrm>
            <a:off x="6732720" y="6040440"/>
            <a:ext cx="210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Calibri"/>
              </a:rPr>
              <a:t>DEUZE Nicolas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Calibri"/>
              </a:rPr>
              <a:t>Lycée G. de la Tour, Nancy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539640" y="473040"/>
            <a:ext cx="819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ÉTHODOLOGIES PROPRES À LA MATIÈ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alyse de documents juridiques spécifiques</a:t>
            </a: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6" name="Text Box 2"/>
          <p:cNvGrpSpPr/>
          <p:nvPr/>
        </p:nvGrpSpPr>
        <p:grpSpPr>
          <a:xfrm>
            <a:off x="646200" y="2200320"/>
            <a:ext cx="8235720" cy="3249720"/>
            <a:chOff x="646200" y="2200320"/>
            <a:chExt cx="8235720" cy="3249720"/>
          </a:xfrm>
        </p:grpSpPr>
        <p:pic>
          <p:nvPicPr>
            <p:cNvPr id="297" name="Text Box 2" descr=""/>
            <p:cNvPicPr/>
            <p:nvPr/>
          </p:nvPicPr>
          <p:blipFill>
            <a:blip r:embed="rId1"/>
            <a:stretch/>
          </p:blipFill>
          <p:spPr>
            <a:xfrm>
              <a:off x="646200" y="2200320"/>
              <a:ext cx="823572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52320" y="2205000"/>
              <a:ext cx="822960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8002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La </a:t>
              </a:r>
              <a:r>
                <a:rPr b="1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décision de justice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 : en tant que ressource juridique pour la construction du cours ou de l’évaluation. 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Le droit positif 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(lois, règlements, conventions collectives, etc….) qui pourra être fourni par l’enseignant ou à rechercher par l’élève (TIC)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 algn="just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Les contrats, 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à la fois porteurs d’informations sur une situation donnée (</a:t>
              </a:r>
              <a:r>
                <a:rPr b="1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O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bserver) et de règles applicables à cette situation (</a:t>
              </a:r>
              <a:r>
                <a:rPr b="1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A</a:t>
              </a:r>
              <a:r>
                <a:rPr b="0" lang="fr-FR" sz="2000" spc="-1" strike="noStrike">
                  <a:solidFill>
                    <a:srgbClr val="000000"/>
                  </a:solidFill>
                  <a:latin typeface="Calibri"/>
                  <a:ea typeface="Lucida Sans Unicode"/>
                </a:rPr>
                <a:t>nalyser).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9" name="Image 3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Evolution de l’EVAL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preuve commune Economie-Droi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’une durée de 3 heures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Calibri"/>
              </a:rPr>
              <a:t>Mise en situation pour chaque discip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1h30 en Économi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1h30 en Droi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Coefficient 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u lieu de 6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Image 3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457200" y="14796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alibri"/>
              </a:rPr>
              <a:t>Objectif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alyser une ou plusieurs situations juridiques et construire une argumentation juridique pertinente au regard du problème posé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Calibri"/>
              </a:rPr>
              <a:t>Modalité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mise d’un sujet au candidat sous la forme d’un dossier comportant une ou plusieurs situations juridiques concrètes accompagnées de ressources documentaires et d’un questionnement  (en relation avec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’un ou plusieurs des thèmes abordés en première et termina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684360" y="620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LA NOUVELLE EVALUATION EN DRO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468360" y="326880"/>
            <a:ext cx="822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ESENTATION DU SUJET 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378000" y="1341360"/>
            <a:ext cx="828036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ien vers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le sujet 0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(présenté dans le guide d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’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accompagnement)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veautés importantes du sujet « type bac »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9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 de la partie rédactionnel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9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ie analytique : Questionnement sur Cas prat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468360" y="3716280"/>
            <a:ext cx="7786800" cy="1225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À l’aide de vos connaissances et des ressources documentaires jointes en annexes 1 et 2, vous analyserez la situation ci-dessous en répondant aux questions posé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468360" y="5157720"/>
            <a:ext cx="7786800" cy="1295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La préparation à l’évaluation fera l’objet d’une formation en présentiel en 2013. Toutefois, vous pouvez nous poser des questions sur le sujet 0 si vous en avez dès à présen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Image 5"/>
          <p:cNvSpPr/>
          <p:nvPr/>
        </p:nvSpPr>
        <p:spPr>
          <a:xfrm>
            <a:off x="324000" y="336600"/>
            <a:ext cx="119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755640" y="260280"/>
            <a:ext cx="741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EXEMPLE DE DÉMARCHE O.A.C.</a:t>
            </a:r>
            <a:br>
              <a:rPr sz="4000"/>
            </a:b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Chapitre : l’exécution du contr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395280" y="1413000"/>
            <a:ext cx="842472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Mise en situation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Robert et Suzanne viennent de conclure un accord avec la société « Construction 2000 » pour la construction de leur futur pavillon d’une valeur de 215 000 €, dont l’achèvement est prévu pour le mois de juin 2013. Les travaux n’ont cependant pratiquement pas avancés : au mois de mai, seule une partie de la maçonnerie a été réalisée. Ils ont pris rendez-vous avec Mme Brique, la dirigeante de la société « Construction 2000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4932360" y="3573360"/>
            <a:ext cx="2486160" cy="16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2"/>
          <a:stretch/>
        </p:blipFill>
        <p:spPr>
          <a:xfrm>
            <a:off x="1419120" y="3454560"/>
            <a:ext cx="3019680" cy="1819080"/>
          </a:xfrm>
          <a:prstGeom prst="rect">
            <a:avLst/>
          </a:prstGeom>
          <a:ln w="0">
            <a:noFill/>
          </a:ln>
        </p:spPr>
      </p:pic>
      <p:sp>
        <p:nvSpPr>
          <p:cNvPr id="314" name="ZoneTexte 1"/>
          <p:cNvSpPr/>
          <p:nvPr/>
        </p:nvSpPr>
        <p:spPr>
          <a:xfrm>
            <a:off x="179280" y="544500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OBSERVER</a:t>
            </a: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formulez la situ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Quelles sont les principales obligations qui découleront de la situation 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NALYSE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: Qualifiez l’accord conclu entre Robert et Suzanne et la société de construc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431640" y="476280"/>
            <a:ext cx="84250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Mise en situation (suite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ors de l’entretien, Mme Brique expose les difficultés rencontrées ces dernières semaines par l’entreprise et propose de fixer une nouvelle échéance pour la réalisation des travaux au 30/09/2013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ssource - Article 1134 du code civil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ventions légalement formées tiennent lieu de lois à ceux qui les ont faites. Elles ne peuvent être révoquées que de leur consentement mutuel, ou pour les causes que la loi autorise. Elles doivent être exécutées de bonne foi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NALYSER :</a:t>
            </a: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obert et Suzanne sont-ils tenus d’accepter cette offre 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ésentez une réponse juridiquement argumentée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ZoneTexte 1"/>
          <p:cNvSpPr/>
          <p:nvPr/>
        </p:nvSpPr>
        <p:spPr>
          <a:xfrm>
            <a:off x="330120" y="479736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9560" indent="-1879560" algn="just"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CONCEPTUALISER 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Que signifie le principe de force obligatoire du contrat établi par l’article 1134 du code civil 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"/>
          <p:cNvSpPr/>
          <p:nvPr/>
        </p:nvSpPr>
        <p:spPr>
          <a:xfrm>
            <a:off x="0" y="11592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Cours de l’élèv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hème 5 :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Quel est le rôle du contrat ?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rcRect l="54898" t="66677" r="11303" b="19360"/>
          <a:stretch/>
        </p:blipFill>
        <p:spPr>
          <a:xfrm>
            <a:off x="1576440" y="1338120"/>
            <a:ext cx="6181560" cy="14385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"/>
          <p:cNvSpPr/>
          <p:nvPr/>
        </p:nvSpPr>
        <p:spPr>
          <a:xfrm>
            <a:off x="250920" y="2852640"/>
            <a:ext cx="86374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élève doit avoir un cours à l’élaboration duquel il aura participé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ours de l’élève devra être organisé selon le fil conducteur décrit par le programme 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Quel est le rôle du contrat dans le cadre de son exécution ?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reprenant les notions décrites dans la deuxième colonne du programme. Pour notre exemple 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e contrat contraint à exécuter les obligations (force obligatoire du contrat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préparant les élèves aux compétences qui devront être les leurs, telles que décrites dans la colonne 3 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Analyser un contrat (article 42 de l’exemple précédent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Identifier les obligations des parties (questions des phases d’observatio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Déterminer les conséquences de l’(in)exécution des obligations (questions des phases d’analys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tographie : Ressources pédagog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395280" y="836640"/>
            <a:ext cx="8497800" cy="55450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,legifrance.gouv.fr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d0d0d"/>
                </a:solidFill>
                <a:latin typeface="Calibri"/>
              </a:rPr>
              <a:t>: le service public du droit : (textes + jurisprudenc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www.touteleurope.eu/fr/divers/plan-du-site.html  : Explications Europ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http://www.creatif-public.net/DEPN/  : Aspects juridiques d’Intern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http://www.village-justice.com : Communauté des métiers du droi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http://www.legisocial.fr/jurisprudences-sociales : arrêts commentés en droit soci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www.wk-ce.fr  ou http://www.wk-rh.fr : textes et jurisprudences commentés en droit soci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www.telejuris.fr : portail des juristes (informations, textes, newsletter…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http://www.legicite.com : site généraliste de l’actualité du droit (info, newsletter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www.editions-tissot.fr : droit du travail, comptabilité, fiscalité (entre autre une newsletter sous forme d’un cas pratique par semain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http://www.net-iris.fr/ : information juridique + newslet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Vidéo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: Dixième chambre, Raymond Depardon (le recours au jug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SOMMAI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" name="Text Box 2"/>
          <p:cNvGrpSpPr/>
          <p:nvPr/>
        </p:nvGrpSpPr>
        <p:grpSpPr>
          <a:xfrm>
            <a:off x="457200" y="1841400"/>
            <a:ext cx="8229600" cy="4108680"/>
            <a:chOff x="457200" y="1841400"/>
            <a:chExt cx="8229600" cy="4108680"/>
          </a:xfrm>
        </p:grpSpPr>
        <p:pic>
          <p:nvPicPr>
            <p:cNvPr id="63" name="Text Box 2" descr=""/>
            <p:cNvPicPr/>
            <p:nvPr/>
          </p:nvPicPr>
          <p:blipFill>
            <a:blip r:embed="rId1"/>
            <a:stretch/>
          </p:blipFill>
          <p:spPr>
            <a:xfrm>
              <a:off x="457200" y="1841400"/>
              <a:ext cx="822960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57200" y="1844640"/>
              <a:ext cx="8229600" cy="41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alibri"/>
                </a:rPr>
                <a:t>Esprit général de la Réforme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alibri"/>
                </a:rPr>
                <a:t>Évolution du Contenu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alibri"/>
                </a:rPr>
                <a:t>Présentation du programme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alibri"/>
                </a:rPr>
                <a:t>Méthodologies propres à la matière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alibri"/>
                </a:rPr>
                <a:t>Nouvelle Évaluation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alibri"/>
                </a:rPr>
                <a:t>Présentation  d’une séquence pédagogique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spcBef>
                  <a:spcPts val="7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5" name="Image 3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ESPRIT GENERAL DE LA REFORME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50920" y="1557360"/>
            <a:ext cx="417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23760"/>
                <a:tab algn="l" pos="1838160"/>
                <a:tab algn="l" pos="2752560"/>
                <a:tab algn="l" pos="3666960"/>
                <a:tab algn="l" pos="4581360"/>
                <a:tab algn="l" pos="5495760"/>
                <a:tab algn="l" pos="6410160"/>
                <a:tab algn="l" pos="7324560"/>
                <a:tab algn="l" pos="8238960"/>
                <a:tab algn="l" pos="9153360"/>
                <a:tab algn="l" pos="100677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Calibri"/>
              </a:rPr>
              <a:t>Donner aux élèves le goût de la chose juridiqu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23760"/>
                <a:tab algn="l" pos="1838160"/>
                <a:tab algn="l" pos="2752560"/>
                <a:tab algn="l" pos="3666960"/>
                <a:tab algn="l" pos="4581360"/>
                <a:tab algn="l" pos="5495760"/>
                <a:tab algn="l" pos="6410160"/>
                <a:tab algn="l" pos="7324560"/>
                <a:tab algn="l" pos="8238960"/>
                <a:tab algn="l" pos="9153360"/>
                <a:tab algn="l" pos="100677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9933"/>
                </a:solidFill>
                <a:latin typeface="Calibri"/>
              </a:rPr>
              <a:t>(ne pas les transformer en jurist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23760"/>
                <a:tab algn="l" pos="1838160"/>
                <a:tab algn="l" pos="2752560"/>
                <a:tab algn="l" pos="3666960"/>
                <a:tab algn="l" pos="4581360"/>
                <a:tab algn="l" pos="5495760"/>
                <a:tab algn="l" pos="6410160"/>
                <a:tab algn="l" pos="7324560"/>
                <a:tab algn="l" pos="8238960"/>
                <a:tab algn="l" pos="9153360"/>
                <a:tab algn="l" pos="100677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Calibri"/>
              </a:rPr>
              <a:t>= Développer une culture juridiqu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23760"/>
                <a:tab algn="l" pos="1838160"/>
                <a:tab algn="l" pos="2752560"/>
                <a:tab algn="l" pos="3666960"/>
                <a:tab algn="l" pos="4581360"/>
                <a:tab algn="l" pos="5495760"/>
                <a:tab algn="l" pos="6410160"/>
                <a:tab algn="l" pos="7324560"/>
                <a:tab algn="l" pos="8238960"/>
                <a:tab algn="l" pos="9153360"/>
                <a:tab algn="l" pos="10067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54360" y="1557360"/>
            <a:ext cx="426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53880"/>
                <a:tab algn="l" pos="126828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78236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Calibri"/>
              </a:rPr>
              <a:t>Donner du sens à la matière : l’indispensable maîtrise des concepts n’est que l’instrument d’une réflexion générale des élèv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619280" y="5013360"/>
            <a:ext cx="54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ctr">
              <a:tabLst>
                <a:tab algn="l" pos="0"/>
                <a:tab algn="l" pos="353880"/>
                <a:tab algn="l" pos="126828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DOPTER UNE APPROCH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3880" indent="-353880" algn="ctr">
              <a:tabLst>
                <a:tab algn="l" pos="0"/>
                <a:tab algn="l" pos="353880"/>
                <a:tab algn="l" pos="126828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AGMATIQUE ET CONCRÈ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3880" indent="-353880" algn="ctr">
              <a:tabLst>
                <a:tab algn="l" pos="0"/>
                <a:tab algn="l" pos="353880"/>
                <a:tab algn="l" pos="126828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SÉE SUR UN CONTEXTE PROBLÉMATIS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3880" indent="-353880" algn="ctr">
              <a:tabLst>
                <a:tab algn="l" pos="0"/>
                <a:tab algn="l" pos="353880"/>
                <a:tab algn="l" pos="126828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≠ approche universitair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Freeform 5"/>
          <p:cNvSpPr/>
          <p:nvPr/>
        </p:nvSpPr>
        <p:spPr>
          <a:xfrm rot="2520000">
            <a:off x="2320560" y="4054320"/>
            <a:ext cx="934920" cy="304920"/>
          </a:xfrm>
          <a:custGeom>
            <a:avLst/>
            <a:gdLst>
              <a:gd name="textAreaLeft" fmla="*/ 0 w 934920"/>
              <a:gd name="textAreaRight" fmla="*/ 935280 w 93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35037" h="304800">
                <a:moveTo>
                  <a:pt x="0" y="76200"/>
                </a:moveTo>
                <a:lnTo>
                  <a:pt x="9525" y="76200"/>
                </a:lnTo>
                <a:lnTo>
                  <a:pt x="9525" y="228600"/>
                </a:lnTo>
                <a:lnTo>
                  <a:pt x="0" y="228600"/>
                </a:lnTo>
                <a:lnTo>
                  <a:pt x="0" y="76200"/>
                </a:lnTo>
                <a:close/>
                <a:moveTo>
                  <a:pt x="19050" y="76200"/>
                </a:moveTo>
                <a:lnTo>
                  <a:pt x="38100" y="76200"/>
                </a:lnTo>
                <a:lnTo>
                  <a:pt x="38100" y="228600"/>
                </a:lnTo>
                <a:lnTo>
                  <a:pt x="19050" y="228600"/>
                </a:lnTo>
                <a:lnTo>
                  <a:pt x="19050" y="76200"/>
                </a:lnTo>
                <a:close/>
                <a:moveTo>
                  <a:pt x="47625" y="76200"/>
                </a:moveTo>
                <a:lnTo>
                  <a:pt x="782637" y="76200"/>
                </a:lnTo>
                <a:lnTo>
                  <a:pt x="782637" y="0"/>
                </a:lnTo>
                <a:lnTo>
                  <a:pt x="935037" y="152400"/>
                </a:lnTo>
                <a:lnTo>
                  <a:pt x="782637" y="304800"/>
                </a:lnTo>
                <a:lnTo>
                  <a:pt x="782637" y="228600"/>
                </a:lnTo>
                <a:lnTo>
                  <a:pt x="47625" y="228600"/>
                </a:lnTo>
                <a:lnTo>
                  <a:pt x="47625" y="76200"/>
                </a:lnTo>
                <a:close/>
              </a:path>
            </a:pathLst>
          </a:custGeom>
          <a:solidFill>
            <a:srgbClr val="ff993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Freeform 6"/>
          <p:cNvSpPr/>
          <p:nvPr/>
        </p:nvSpPr>
        <p:spPr>
          <a:xfrm rot="8340000">
            <a:off x="5223960" y="4075200"/>
            <a:ext cx="933480" cy="304560"/>
          </a:xfrm>
          <a:custGeom>
            <a:avLst/>
            <a:gdLst>
              <a:gd name="textAreaLeft" fmla="*/ 0 w 933480"/>
              <a:gd name="textAreaRight" fmla="*/ 933840 w 9334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935037" h="304800">
                <a:moveTo>
                  <a:pt x="0" y="76200"/>
                </a:moveTo>
                <a:lnTo>
                  <a:pt x="9525" y="76200"/>
                </a:lnTo>
                <a:lnTo>
                  <a:pt x="9525" y="228600"/>
                </a:lnTo>
                <a:lnTo>
                  <a:pt x="0" y="228600"/>
                </a:lnTo>
                <a:lnTo>
                  <a:pt x="0" y="76200"/>
                </a:lnTo>
                <a:close/>
                <a:moveTo>
                  <a:pt x="19050" y="76200"/>
                </a:moveTo>
                <a:lnTo>
                  <a:pt x="38100" y="76200"/>
                </a:lnTo>
                <a:lnTo>
                  <a:pt x="38100" y="228600"/>
                </a:lnTo>
                <a:lnTo>
                  <a:pt x="19050" y="228600"/>
                </a:lnTo>
                <a:lnTo>
                  <a:pt x="19050" y="76200"/>
                </a:lnTo>
                <a:close/>
                <a:moveTo>
                  <a:pt x="47625" y="76200"/>
                </a:moveTo>
                <a:lnTo>
                  <a:pt x="782637" y="76200"/>
                </a:lnTo>
                <a:lnTo>
                  <a:pt x="782637" y="0"/>
                </a:lnTo>
                <a:lnTo>
                  <a:pt x="935037" y="152400"/>
                </a:lnTo>
                <a:lnTo>
                  <a:pt x="782637" y="304800"/>
                </a:lnTo>
                <a:lnTo>
                  <a:pt x="782637" y="228600"/>
                </a:lnTo>
                <a:lnTo>
                  <a:pt x="47625" y="228600"/>
                </a:lnTo>
                <a:lnTo>
                  <a:pt x="47625" y="762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0040" y="127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Évolution du CONTE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ZoneTexte 3"/>
          <p:cNvSpPr/>
          <p:nvPr/>
        </p:nvSpPr>
        <p:spPr>
          <a:xfrm>
            <a:off x="684360" y="1506600"/>
            <a:ext cx="7632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u de changement dans les grandes lignes, MAI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Calibri"/>
              </a:rPr>
              <a:t>Diminution des apports notionn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ans le nouveau programme de Droit STM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che plus « généraliste »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Calibri"/>
              </a:rPr>
              <a:t>Présentation des principes        Exceptions non traité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Les TICE conservent toute leur importance pour la recherche d’informations et d’illustrations du cou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Flèche droite 4"/>
          <p:cNvSpPr/>
          <p:nvPr/>
        </p:nvSpPr>
        <p:spPr>
          <a:xfrm>
            <a:off x="4524480" y="3857760"/>
            <a:ext cx="403200" cy="215640"/>
          </a:xfrm>
          <a:prstGeom prst="rightArrow">
            <a:avLst>
              <a:gd name="adj1" fmla="val 50000"/>
              <a:gd name="adj2" fmla="val 4993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Image 4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403280" y="-114480"/>
            <a:ext cx="72835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PRESENTATION DU PROGRAMME DE  PREMIERE STMG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7" name="Text Box 2"/>
          <p:cNvGrpSpPr/>
          <p:nvPr/>
        </p:nvGrpSpPr>
        <p:grpSpPr>
          <a:xfrm>
            <a:off x="390600" y="1914480"/>
            <a:ext cx="8235720" cy="4108320"/>
            <a:chOff x="390600" y="1914480"/>
            <a:chExt cx="8235720" cy="4108320"/>
          </a:xfrm>
        </p:grpSpPr>
        <p:pic>
          <p:nvPicPr>
            <p:cNvPr id="78" name="Text Box 2" descr=""/>
            <p:cNvPicPr/>
            <p:nvPr/>
          </p:nvPicPr>
          <p:blipFill>
            <a:blip r:embed="rId1"/>
            <a:stretch/>
          </p:blipFill>
          <p:spPr>
            <a:xfrm>
              <a:off x="390600" y="1914480"/>
              <a:ext cx="823572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95280" y="1916280"/>
              <a:ext cx="8229600" cy="41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alibri"/>
                </a:rPr>
                <a:t>Thème 1 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Calibri"/>
                </a:rPr>
                <a:t>Qu’est ce que le droit 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Qu’est-ce que le droit aujourd’hui ? (STG)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A qui est confié le pouvoir d’élaborer une règle de droit ?  (STG)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alibri"/>
                </a:rPr>
                <a:t>Thème 2 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Calibri"/>
                </a:rPr>
                <a:t>Comment le droit permet-il de régler un litige 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Comment faire valoir ses droits ? (STG)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alibri"/>
                </a:rPr>
                <a:t>Thème 3 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Calibri"/>
                </a:rPr>
                <a:t>Qui peut faire valoir ses droits 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Qu’est-ce qu’une personne pour le droit ? (STG)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alibri"/>
                </a:rPr>
                <a:t>Thème 4 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Calibri"/>
                </a:rPr>
                <a:t>Quels sont les droits reconnus aux personnes 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Comment expliquer la diversité des droits reconnus à une personne ? (STG)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alibri"/>
                </a:rPr>
                <a:t>Thème 5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Calibri"/>
                </a:rPr>
                <a:t>  Quel est le rôle du contrat 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Quelle est l’origine des droits de la personne ? (STG)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0" name="Image 3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1332000" y="-114480"/>
            <a:ext cx="7354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PRESENTATION DU PROGRAMME DE  TERMINALE STMG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2" name="Text Box 2"/>
          <p:cNvGrpSpPr/>
          <p:nvPr/>
        </p:nvGrpSpPr>
        <p:grpSpPr>
          <a:xfrm>
            <a:off x="457200" y="2127240"/>
            <a:ext cx="8229600" cy="4286160"/>
            <a:chOff x="457200" y="2127240"/>
            <a:chExt cx="8229600" cy="4286160"/>
          </a:xfrm>
        </p:grpSpPr>
        <p:pic>
          <p:nvPicPr>
            <p:cNvPr id="83" name="Text Box 2" descr=""/>
            <p:cNvPicPr/>
            <p:nvPr/>
          </p:nvPicPr>
          <p:blipFill>
            <a:blip r:embed="rId1"/>
            <a:stretch/>
          </p:blipFill>
          <p:spPr>
            <a:xfrm>
              <a:off x="457200" y="2127240"/>
              <a:ext cx="82296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2133720"/>
              <a:ext cx="822960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alibri"/>
                </a:rPr>
                <a:t>Thème </a:t>
              </a:r>
              <a:r>
                <a:rPr b="0" i="1" lang="fr-FR" sz="22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i="1" lang="fr-FR" sz="2200" spc="-1" strike="noStrike">
                  <a:solidFill>
                    <a:srgbClr val="000000"/>
                  </a:solidFill>
                  <a:latin typeface="Calibri"/>
                </a:rPr>
                <a:t>  Qu’est-ce qu’être responsable ?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Quelle est l’origine des droits de la personne ? (STG)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alibri"/>
                </a:rPr>
                <a:t>Thème 7</a:t>
              </a:r>
              <a:r>
                <a:rPr b="1" i="1" lang="fr-FR" sz="2200" spc="-1" strike="noStrike">
                  <a:solidFill>
                    <a:srgbClr val="000000"/>
                  </a:solidFill>
                  <a:latin typeface="Calibri"/>
                </a:rPr>
                <a:t> Comment le droit encadre-t-il le travail salarié ?</a:t>
              </a:r>
              <a:r>
                <a:rPr b="0" i="1" lang="fr-FR" sz="2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Comment le droit encadre-t-il la relation de travail dans l’entreprise ? (STG)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alibri"/>
                </a:rPr>
                <a:t>Thème 8</a:t>
              </a:r>
              <a:r>
                <a:rPr b="1" i="1" lang="fr-FR" sz="2200" spc="-1" strike="noStrike">
                  <a:solidFill>
                    <a:srgbClr val="000000"/>
                  </a:solidFill>
                  <a:latin typeface="Calibri"/>
                </a:rPr>
                <a:t>  Comment le droit organise-t-il l'activité économique ?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A quelles règles sont soumises les entreprises sur le marché ? (STG)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alibri"/>
                </a:rPr>
                <a:t>Thème 9</a:t>
              </a:r>
              <a:r>
                <a:rPr b="1" i="1" lang="fr-FR" sz="2200" spc="-1" strike="noStrike">
                  <a:solidFill>
                    <a:srgbClr val="000000"/>
                  </a:solidFill>
                  <a:latin typeface="Calibri"/>
                </a:rPr>
                <a:t>  Comment entreprendre ?</a:t>
              </a:r>
              <a:r>
                <a:rPr b="0" i="1" lang="fr-FR" sz="2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Comment est exercé le pouvoir de décision dans l’entreprise ? (STG)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alibri"/>
                </a:rPr>
                <a:t>Quelle est la relation entre le droit et l’entreprise ? (STG)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 algn="ctr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Calibri"/>
                </a:rPr>
                <a:t>Fera l’objet d’une présentation plus détaillée 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 algn="ctr"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Calibri"/>
                </a:rPr>
                <a:t>au cours d’une formation organisée en 2013.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5" name="Image 3"/>
          <p:cNvSpPr/>
          <p:nvPr/>
        </p:nvSpPr>
        <p:spPr>
          <a:xfrm>
            <a:off x="324000" y="473040"/>
            <a:ext cx="1191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06280"/>
            <a:ext cx="82296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HEME 1 </a:t>
            </a:r>
            <a:br>
              <a:rPr sz="2800"/>
            </a:br>
            <a:r>
              <a:rPr b="1" i="1" lang="fr-FR" sz="2800" spc="-1" strike="noStrike">
                <a:solidFill>
                  <a:srgbClr val="ff9933"/>
                </a:solidFill>
                <a:latin typeface="Calibri"/>
              </a:rPr>
              <a:t>Qu’est ce que le droit ?</a:t>
            </a:r>
            <a:br>
              <a:rPr sz="2800"/>
            </a:b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(Durée : 15 % volume horaire = 10 heures cours et travaux de group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1916280"/>
            <a:ext cx="82296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ff9933"/>
                </a:solidFill>
                <a:uFillTx/>
                <a:latin typeface="Calibri"/>
              </a:rPr>
              <a:t>Sens général</a:t>
            </a:r>
            <a:r>
              <a:rPr b="1" lang="fr-FR" sz="1600" spc="-1" strike="noStrike">
                <a:solidFill>
                  <a:srgbClr val="ff993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7984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 droit vise à organiser la société au nom de certaines valeurs. Il émane d’autorités légitimes. D’une grande diversité, les règles de droit constituent un ensemble normatif cohérent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798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ff9933"/>
                </a:solidFill>
                <a:uFillTx/>
                <a:latin typeface="Calibri"/>
              </a:rPr>
              <a:t>Méthodologi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7984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a « Qualification juridique constitue une phase de l’argumentation juridique [et] doit être abordée dès ce moment de l’étude. 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798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ff9933"/>
                </a:solidFill>
                <a:uFillTx/>
                <a:latin typeface="Calibri"/>
              </a:rPr>
              <a:t>Notions et contenu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798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incipes d’égalité, liberté, solidarité, laïcité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798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égitimité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798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ous les sources de droit et leur autorité créatrice « sans entrer dans le détail de leur création 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08000" y="333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9933"/>
                </a:solidFill>
                <a:latin typeface="Calibri"/>
              </a:rPr>
              <a:t>THEME 1 SCHEMA NOTIONN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76720" y="115920"/>
            <a:ext cx="3467160" cy="39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QU’EST-CE QUE LE DROIT 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2" name="AutoShape 7"/>
          <p:cNvCxnSpPr>
            <a:stCxn id="91" idx="2"/>
          </p:cNvCxnSpPr>
          <p:nvPr/>
        </p:nvCxnSpPr>
        <p:spPr>
          <a:xfrm flipH="1">
            <a:off x="5003280" y="506520"/>
            <a:ext cx="7200" cy="47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AutoShape 8"/>
          <p:cNvCxnSpPr/>
          <p:nvPr/>
        </p:nvCxnSpPr>
        <p:spPr>
          <a:xfrm flipV="1">
            <a:off x="799920" y="948960"/>
            <a:ext cx="65062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AutoShape 9"/>
          <p:cNvCxnSpPr/>
          <p:nvPr/>
        </p:nvCxnSpPr>
        <p:spPr>
          <a:xfrm>
            <a:off x="798120" y="1007640"/>
            <a:ext cx="25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AutoShape 11"/>
          <p:cNvSpPr/>
          <p:nvPr/>
        </p:nvSpPr>
        <p:spPr>
          <a:xfrm>
            <a:off x="5896080" y="1484280"/>
            <a:ext cx="265752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 règles émanant de…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6" name="AutoShape 12"/>
          <p:cNvCxnSpPr/>
          <p:nvPr/>
        </p:nvCxnSpPr>
        <p:spPr>
          <a:xfrm>
            <a:off x="7305840" y="947880"/>
            <a:ext cx="360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3"/>
          <p:cNvCxnSpPr/>
          <p:nvPr/>
        </p:nvCxnSpPr>
        <p:spPr>
          <a:xfrm>
            <a:off x="539640" y="2133360"/>
            <a:ext cx="195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AutoShape 14"/>
          <p:cNvCxnSpPr/>
          <p:nvPr/>
        </p:nvCxnSpPr>
        <p:spPr>
          <a:xfrm>
            <a:off x="2484000" y="2131560"/>
            <a:ext cx="1080" cy="20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Line 23"/>
          <p:cNvSpPr/>
          <p:nvPr/>
        </p:nvSpPr>
        <p:spPr>
          <a:xfrm>
            <a:off x="7020000" y="1989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0" name="AutoShape 24"/>
          <p:cNvCxnSpPr/>
          <p:nvPr/>
        </p:nvCxnSpPr>
        <p:spPr>
          <a:xfrm>
            <a:off x="7019640" y="17730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25"/>
          <p:cNvCxnSpPr/>
          <p:nvPr/>
        </p:nvCxnSpPr>
        <p:spPr>
          <a:xfrm>
            <a:off x="8892720" y="1988640"/>
            <a:ext cx="1080" cy="324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26"/>
          <p:cNvCxnSpPr/>
          <p:nvPr/>
        </p:nvCxnSpPr>
        <p:spPr>
          <a:xfrm>
            <a:off x="2195640" y="982800"/>
            <a:ext cx="216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27"/>
          <p:cNvCxnSpPr/>
          <p:nvPr/>
        </p:nvCxnSpPr>
        <p:spPr>
          <a:xfrm flipH="1">
            <a:off x="538920" y="1988640"/>
            <a:ext cx="25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11"/>
          <p:cNvSpPr/>
          <p:nvPr/>
        </p:nvSpPr>
        <p:spPr>
          <a:xfrm>
            <a:off x="77760" y="1484280"/>
            <a:ext cx="1441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expression de valeurs collectiv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2987640" y="1484280"/>
            <a:ext cx="251316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 règles à caractère…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6" name="AutoShape 9"/>
          <p:cNvCxnSpPr/>
          <p:nvPr/>
        </p:nvCxnSpPr>
        <p:spPr>
          <a:xfrm>
            <a:off x="4284720" y="980640"/>
            <a:ext cx="216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AutoShape 11"/>
          <p:cNvSpPr/>
          <p:nvPr/>
        </p:nvSpPr>
        <p:spPr>
          <a:xfrm>
            <a:off x="0" y="2565360"/>
            <a:ext cx="1116000" cy="151128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511280"/>
              <a:gd name="textAreaBottom" fmla="*/ 1456920 h 1511280"/>
            </a:gdLst>
            <a:ahLst/>
            <a:rect l="textAreaLeft" t="textAreaTop" r="textAreaRight" b="textAreaBottom"/>
            <a:pathLst>
              <a:path w="21600" h="29248">
                <a:moveTo>
                  <a:pt x="3600" y="0"/>
                </a:moveTo>
                <a:arcTo wR="3600" hR="3600" stAng="16200000" swAng="-5400000"/>
                <a:lnTo>
                  <a:pt x="0" y="25648"/>
                </a:lnTo>
                <a:arcTo wR="3600" hR="3600" stAng="10800000" swAng="-5400000"/>
                <a:lnTo>
                  <a:pt x="18000" y="292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Principe du droit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Egalité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Liberté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Solidarité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Laïcité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1187280" y="2565360"/>
            <a:ext cx="1224000" cy="1511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511280"/>
              <a:gd name="textAreaBottom" fmla="*/ 1451520 h 1511280"/>
            </a:gdLst>
            <a:ahLst/>
            <a:rect l="textAreaLeft" t="textAreaTop" r="textAreaRight" b="textAreaBottom"/>
            <a:pathLst>
              <a:path w="21600" h="26668">
                <a:moveTo>
                  <a:pt x="3600" y="0"/>
                </a:moveTo>
                <a:arcTo wR="3600" hR="3600" stAng="16200000" swAng="-5400000"/>
                <a:lnTo>
                  <a:pt x="0" y="23068"/>
                </a:lnTo>
                <a:arcTo wR="3600" hR="3600" stAng="10800000" swAng="-5400000"/>
                <a:lnTo>
                  <a:pt x="18000" y="26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Fonction du droit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Pacific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Organisation socia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0" y="4149720"/>
            <a:ext cx="270036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Exemple à prendre dans l’actuali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Vie privée                           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Vie professionnelle           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Vie économique et sociale              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0" name="AutoShape 13"/>
          <p:cNvCxnSpPr/>
          <p:nvPr/>
        </p:nvCxnSpPr>
        <p:spPr>
          <a:xfrm>
            <a:off x="3348000" y="2133360"/>
            <a:ext cx="252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AutoShape 14"/>
          <p:cNvCxnSpPr/>
          <p:nvPr/>
        </p:nvCxnSpPr>
        <p:spPr>
          <a:xfrm flipH="1">
            <a:off x="5508720" y="5229000"/>
            <a:ext cx="35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26"/>
          <p:cNvCxnSpPr/>
          <p:nvPr/>
        </p:nvCxnSpPr>
        <p:spPr>
          <a:xfrm>
            <a:off x="4572000" y="1773360"/>
            <a:ext cx="216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27"/>
          <p:cNvCxnSpPr/>
          <p:nvPr/>
        </p:nvCxnSpPr>
        <p:spPr>
          <a:xfrm>
            <a:off x="3347640" y="2133720"/>
            <a:ext cx="25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11"/>
          <p:cNvSpPr/>
          <p:nvPr/>
        </p:nvSpPr>
        <p:spPr>
          <a:xfrm>
            <a:off x="2771640" y="2492280"/>
            <a:ext cx="1440000" cy="230508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305080"/>
              <a:gd name="textAreaBottom" fmla="*/ 2234880 h 2305080"/>
            </a:gdLst>
            <a:ahLst/>
            <a:rect l="textAreaLeft" t="textAreaTop" r="textAreaRight" b="textAreaBottom"/>
            <a:pathLst>
              <a:path w="21600" h="34573">
                <a:moveTo>
                  <a:pt x="3600" y="0"/>
                </a:moveTo>
                <a:arcTo wR="3600" hR="3600" stAng="16200000" swAng="-5400000"/>
                <a:lnTo>
                  <a:pt x="0" y="30973"/>
                </a:lnTo>
                <a:arcTo wR="3600" hR="3600" stAng="10800000" swAng="-5400000"/>
                <a:lnTo>
                  <a:pt x="18000" y="34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Légitime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cceptation commune de l’autorité investie du pouvoir de créer la règ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Générale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roit régit toutes les situation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Obligatoire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ercitif si non respecté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4284720" y="2492280"/>
            <a:ext cx="1224000" cy="23050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2305080"/>
              <a:gd name="textAreaBottom" fmla="*/ 2245320 h 2305080"/>
            </a:gdLst>
            <a:ahLst/>
            <a:rect l="textAreaLeft" t="textAreaTop" r="textAreaRight" b="textAreaBottom"/>
            <a:pathLst>
              <a:path w="21600" h="40672">
                <a:moveTo>
                  <a:pt x="3600" y="0"/>
                </a:moveTo>
                <a:arcTo wR="3600" hR="3600" stAng="16200000" swAng="-5400000"/>
                <a:lnTo>
                  <a:pt x="0" y="37072"/>
                </a:lnTo>
                <a:arcTo wR="3600" hR="3600" stAng="10800000" swAng="-5400000"/>
                <a:lnTo>
                  <a:pt x="18000" y="40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Illustration par des règles issues du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Code civi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Code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péna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· Code du travai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2771640" y="4869000"/>
            <a:ext cx="2700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Qualification juridique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à introduire ici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u concret vers l’abstrait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7" name="AutoShape 13"/>
          <p:cNvCxnSpPr/>
          <p:nvPr/>
        </p:nvCxnSpPr>
        <p:spPr>
          <a:xfrm>
            <a:off x="5866920" y="2133360"/>
            <a:ext cx="1080" cy="309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AutoShape 11"/>
          <p:cNvSpPr/>
          <p:nvPr/>
        </p:nvSpPr>
        <p:spPr>
          <a:xfrm>
            <a:off x="5940360" y="2708280"/>
            <a:ext cx="2664000" cy="24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titution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ouvoir constituan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oi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arlemen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èglement (décret + arrêté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ouvernement, Ministre, Préfet, Maire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donnanc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Gouvernemen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onvention collective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yndica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urisprudenc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Jug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ctrin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Universitair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roit communautaire (traités, Directives, règlements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ission, Conseil des ministres, Parlement européen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5867280" y="5229360"/>
            <a:ext cx="3203640" cy="16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 u="sng">
                <a:solidFill>
                  <a:srgbClr val="7030a0"/>
                </a:solidFill>
                <a:uFillTx/>
                <a:latin typeface="Calibri"/>
              </a:rPr>
              <a:t>Suppression</a:t>
            </a:r>
            <a:r>
              <a:rPr b="0" lang="fr-FR" sz="1200" spc="-1" strike="noStrike">
                <a:solidFill>
                  <a:srgbClr val="7030a0"/>
                </a:solidFill>
                <a:latin typeface="Calibri"/>
              </a:rPr>
              <a:t> : Décision des AAI, Accords collectifs, Usages, coutumes, pratiques, traités internationaux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plémentarité et hiérarchie des sources de droit à montrer aux élèv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ucun détail des processus de création des sources de droit (lois notamment…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5940360" y="2276640"/>
            <a:ext cx="2664000" cy="35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ègle de droit   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Autorité créatric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619280" y="1484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La recherche d’un bu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2" name="AutoShape 27"/>
          <p:cNvCxnSpPr/>
          <p:nvPr/>
        </p:nvCxnSpPr>
        <p:spPr>
          <a:xfrm flipH="1">
            <a:off x="2050200" y="1988640"/>
            <a:ext cx="25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ragé Roché</dc:creator>
  <dc:description/>
  <dc:language>en-US</dc:language>
  <cp:lastModifiedBy>CHRIS L.</cp:lastModifiedBy>
  <cp:lastPrinted>2012-04-04T12:41:31Z</cp:lastPrinted>
  <dcterms:modified xsi:type="dcterms:W3CDTF">2013-12-06T14:11:40Z</dcterms:modified>
  <cp:revision>120</cp:revision>
  <dc:subject/>
  <dc:title>Présentation PowerPoint</dc:title>
</cp:coreProperties>
</file>